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190ACEE-7144-44B8-9156-DA9592742589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5456658-40E3-42E2-BC0A-12126C0C15AF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668C760-0E12-4A16-83E7-A797E7D160B5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fied Modeling Language™ (UML®) technology: extensive support for class diagrams, tagged values, stereotypes, associations (aggregates, compositions), multiplicity, visibility, and mixed transient/persistent elements and class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1513269-0A74-485C-8330-EB1CCE1D8434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564632D-9E3D-429C-9373-2EC1B0BFB281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2960" y="4414680"/>
            <a:ext cx="50320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295280"/>
            <a:ext cx="8991360" cy="548640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81880" y="6477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629400" y="6095880"/>
            <a:ext cx="2286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6095880"/>
            <a:ext cx="228600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6880" y="6210360"/>
            <a:ext cx="2000520" cy="449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lvl="1" marL="457200" indent="0" algn="ctr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7200" y="1815840"/>
            <a:ext cx="80629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is New in Delphi 2006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Fredrik Haglund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Developer Evangelis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ogether – Audit and Metric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5410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udi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ource code conformity rul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Violations displaye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From Design Issues to Naming Conventio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Descriptions &amp; How to Fix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etric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Evaluate Object Complexit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Quantify your co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Highlight Redesign Nee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hange Impact Analysi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456000" cy="258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38178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ditor enhancem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ool Palett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ncEd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cluttered left gu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Glyphs no longer crowd each oth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umbers only every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line (option controlle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lways displays line number on cursor lin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nge-ba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ines modified since last sav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ines modified since open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limo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new Intellimouse support in VC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iddle click enables scroller target similar to I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lphi support for C++Builde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gle option to generate all required support files when building a Delphi component packag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ew –jl DCC32 compiler switc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Generate all C++Builder files in ID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HPP fi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LIB – no individual .OBJs are gener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BP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nent palette now filters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++ Only – package built with C++Build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lphi Only – package built without above switc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lphi &amp; C++ - Delphi package built with above switc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Designe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m Positioner (no more accidental move of form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lines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e dynamic alignment marks based on controls already on the form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everages new Padding and Margins properti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Horizontal &amp; Vertical alignment marks (boundary alignment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rgin alignment marks (spacing between control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ext baseline (horiz. alignment of embedded text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xtendable by component developer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- Guidelin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555480" y="1287360"/>
            <a:ext cx="683604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TDesignerGuideType - Describes how to handle the a particular guide line type 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style.  For the gtAlignLeft, gtAlignTop, gtAlignRight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gtAlignBottom types, they must match another guideline o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he same type.  For the gtMarginLeft, gtMarginTop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gtMarginRight, gtMarginBottom types, they must match one o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he opposite type (ie. gtMarginTop matches gtMarginBottom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Use the gtBaseline type to indicate some important intern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eature of the control such as the text baseline on a butt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or edit control. }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DesignerGuideType = (gtAlignLeft, gtAlignTop, gtAlignRight, gtAlignBottom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gtMarginLeft, gtMarginTop, gtMarginRight, gtMarginBottom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gtPaddingLeft, gtPaddingTop, gtPaddingRight, gtPaddingBottom, gtBaseline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IComponentGuidelines = interfa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['{237413D7-F6B8-4B8D-B581-3CDC320CE854}'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Returns the number of guide lines described by this interface instance }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unction GetCount: Integer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Returns the index'ed designer guide type }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unction GetDesignerGuideType(Index: Integer): TDesignerGuideType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{ Returns the index'ed designer guide offset.  This is the offset from th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ontrol origin.  It can be negative to describe guidelines that exist 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he top and left of a control. }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unction GetDesignerGuideOffset(Index: Integer): Integer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perty Count: Integer read GetCoun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perty DesignerGuideTypes[Index: Integer]: TDesignerGuideType read GetDesignerGuideType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perty DesignerGuideOffsets[Index: Integer]: Integer read GetDesignerGuideOffse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end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TBaseComponentGuidelines = class(TInterfacedObject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FDesigner: IDesigner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ub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constructor Create(const ADesigner: IDesigner); virtual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cedure Initialize(AComponent: TComponent; AContainer: TComponent); virtual; abstrac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property Designer: IDesigner read FDesigner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Lucida Console"/>
              </a:rPr>
              <a:t>end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TML Design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!  Better HTML Source preservation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 Editor Error Insigh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hows errors in inconsistent tag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g Editor now optionally auto hi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ment highlighted if tag has err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lock Comple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more typing ‘end;’ or ‘}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orks with ‘try’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nderstands ‘else’ claus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tches indent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ive Templat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 “boilerplate” constructs with “live” fiel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uto completion m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utomatically invoked on &lt;space&gt; based on previous toke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inly for language statem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with code-completion li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rrounds” templates for wrapping existing code with comments, regions, “if” statements, etc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 templates view for managing templates based on langua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definition uses Live Templates to define new templ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r configurable aggressiveness – Tools|Options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text-aware templates know where you are in c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bugg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eakpoi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ump Call Stack or Expression to Lo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tch 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isplayed as an expandable tree for structured typ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nable/Disable each watch with checkbox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ls 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e values earlier in Call Stack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isplayed as an expandable tree for structured typ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! Expandable tooltip evaluation for structured typ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tomatically closes implicitly opened fi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deguard debugging support (C++ Builde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mbol Table Manag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will be covered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Development Environment (ID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ntime Library (RT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sual Component Library (VC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will be covered? - Languag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Variables, Static Methods, Class Constructor, Class Proper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ict Private, Strict Protec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sted declarations (class visibilit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e Types – Records: Methods, Constructor, Interf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rator Overlo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in – lo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300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nction Inlineing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Inserting complete expression node trees into dcu-files is first step towards Generic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code identifiers in UTF-8 or UCS2 (not RTT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scape keyword (&amp;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and Record Help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Pentium 4 SSE4 and SSE2 Instructions Op C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ML Doc Gen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amespa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namespace is a logical container for types to eliminate name collis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mespaces do not have any physical manifes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ssembly can contribute to multiple namespa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e assemblies can contribute to a namesp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ple: System.Windows.Forms in .N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amespaces and Delphi Syntax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phi unit defines its own namesp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tted names in unit identifiers and file na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 fully qualified identifi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served words / keywords allowed after first iden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nicode/UTF8 identifiers will be allowed after first id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(not in first release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For In Loo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or Element in ArrayExpr do Stmt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or Element in StringExpr do Stmt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or Element in SetExpr do Stmt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or Element in CollectionExpr do Stmt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Function inlin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Inline directiv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Is only a Hint to the compil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an result in large executabl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{$INLINE ON}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enabled for functions marked with the inline keywor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{$INLINE OFF}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suppress inlining in a (portion of a) program, for specific call site, regardless of presence of inline directiv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{$INLINE AUTO}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ompiler will inline functions marked plus automatically inline function with small bodi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Records with method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Record = reco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a,b: Intege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MyRecordWithMethods = reco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a,b: Intege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onstructor Create(aParam,bParam: Integer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function toString: String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Records -&gt; Operator verload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Quark = reco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priva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Charge: Intege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Spin: Singl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Color: Byt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publi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Add(a, b: TQuark): TQuar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Add(a: TQuark; b: Byte): TQuar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Implicit(a: Integer): TQuar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Explicit(a: TQuark): Intege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lass operator Explicit(a: TQuark): String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nd;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perator Overload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q: TQuark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s: String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q := 12;     // Implicit conversion from inte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q := q + 4;  // Add(TQuark, Byte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/ q := 4 + q;  syntax error – no Add(Byte, TQuark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 := String(q);  // Explicit(Quark): Str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riteln(q);  // compiler uses Explicit(Quark): St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perator overload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rators only apply to the language’s existing set of operato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+-/*div mod xor and or not shl shr, etc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new or arbitrary funny symbo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licit operators define what typecasts are allow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licit operators define what silent conversions are allowed (like byte-&gt;intege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ly cast operators may overload by function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ested Typ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Class =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data: Integer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t foo = 1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 TNestedClass =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Hello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Gree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DE - Productiv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Class scop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New class scoping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 Narrow"/>
              </a:rPr>
              <a:t>Strict priva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 Narrow"/>
              </a:rPr>
              <a:t>Strict protect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Class Variabl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TMyClass = cla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lass v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InstanceCount: Integer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constructor Creat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 Static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Class =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Fdata: Integer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perty Foo: String …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cedure On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cedure Two; static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Abstract Classes / Method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Class = abstract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cedure On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procedure Two; abstrac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Narrow"/>
              </a:rPr>
              <a:t>Sealed Class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FirstClass =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One; virtual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SecondClass = sealed class(TMyFirstCla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One; override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MyThirdClass = class(TMySecondClas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cedure One; override;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</a:t>
            </a:r>
            <a:r>
              <a:rPr b="0" lang="en-US" sz="2400" spc="-1" strike="noStrike">
                <a:solidFill>
                  <a:srgbClr val="ea0600"/>
                </a:solidFill>
                <a:latin typeface="Arial Narrow"/>
              </a:rPr>
              <a:t>produces compiler err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 Helper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lass helper is a syntax trick that makes methods and properties appear to exist on object types beyond your contro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ple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phi’s traditional TObject base class has a Classname method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Delphi for .NET, though TObject = System.Objec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.Object does not implement “Classname”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ever, Delphi source code can call Classname on any object in .NET, and get the expected result, without modifying the .NET objec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 Helper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le #1:  Class Helpers are for binding the language and class library foundations to new platforms while preserving name expectations for existing portable co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helpers are not intended for application or component developmen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 Helper Syntax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bjectHelper = class helper for T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ass function Classname: String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505320"/>
            <a:ext cx="655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Conta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/ Protected / Public s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methods and instance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methods (which can be overridd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tr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v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NOT contain instance data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T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TL – What’s New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! High performance, thread-safe/aware Memory Manag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n3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sed on the FastMM4 memory manager by Pierre le Ri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thread lock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laces old Borland memory manag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ust recompile to get new memory manag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 RTL functions from FastCode projec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ve, Pos, PosE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areM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Copy, StrComp, UpperCase, LowerCa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wer, ArcCos, ArcSi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ngth is now inlin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iminates the call overhead for checking string length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Delphi 2006 - Refactoring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418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ymbol Rename (Delphi, C#, C++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tract Method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eclare Variable and Field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ind References (Delphi, C#, C++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tract Resourcestring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ind Unit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se Namespace (C#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ndo (Delphi, C#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hange Parameters (Delphi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lso Model Refactorings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3351240" cy="3610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0" y="3300480"/>
            <a:ext cx="182880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– New Proper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gi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fines a “no fly” zone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outside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d with Designer Guidelines to define where guides g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faults to 3 pix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ignWithMargi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s the name implies – takes into account the Margins propert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rgins never violate other margin spac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fines a “no fly” zone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contain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nly on containers (TForm, TFrame, TPanel, etc..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faults to 0 pix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– New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ButtonGro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CategoryButt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DockTabS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PopUpActionB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TrayIc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GridPan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es a flexible grid based layou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ells can span multiple columns or row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trols are sized and aligned automaticall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ide effect – reduces flick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FlowPan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utomatic “flow” layout of cont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ful for run-time generated form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CL – New function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limouse/Mouse whe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Just include the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Mous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unit to enable i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es support to display scroller target like Internet Explor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Listbox, TMemo, TListView, TTreeView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d in IDE editor as well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yalty Free! MIDAS/DataSnap™ multi-tier deployment licen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bExpress™ server connectivity 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rBase® v7.5 and 7.5.1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racle® 10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icrosoft SQL Server™ 2000 and 2005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formix® 9x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BM DB2® 8.x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ySQL® 4.0.24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QL Anywhere® 9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ybase® 12.5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365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Questions &amp; Answer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4680" y="152280"/>
            <a:ext cx="823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nit Test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46120" y="1522440"/>
            <a:ext cx="4114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Unit (.NET) sup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DUnit (Delphi/Win32) sup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w test case (Delphi &amp; C#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ew test project (Delphi &amp; C#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3280" y="1687680"/>
            <a:ext cx="4133880" cy="109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34800" y="3300480"/>
            <a:ext cx="55627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DE with Integrated Class Design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30540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ogether – Diagramming Typ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5760" y="1523520"/>
            <a:ext cx="4546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lass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ollaboration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Use Case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ctivity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omponent Diagram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eployment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tatechart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equence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42670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525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ML™ Modeling with LiveSource™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gether® LiveSource™ technolog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ML™ Class diagrams ar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Narrow"/>
              </a:rPr>
              <a:t>liv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rendition of the underlying source cod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del to Code.  Code to Model.  Always in sync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77960" y="3641760"/>
            <a:ext cx="6781680" cy="2667960"/>
            <a:chOff x="1677960" y="3641760"/>
            <a:chExt cx="6781680" cy="2667960"/>
          </a:xfrm>
        </p:grpSpPr>
        <p:grpSp>
          <p:nvGrpSpPr>
            <p:cNvPr id="111" name=""/>
            <p:cNvGrpSpPr/>
            <p:nvPr/>
          </p:nvGrpSpPr>
          <p:grpSpPr>
            <a:xfrm>
              <a:off x="4421160" y="3641760"/>
              <a:ext cx="990360" cy="837720"/>
              <a:chOff x="4421160" y="3641760"/>
              <a:chExt cx="990360" cy="83772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4970160" y="3641760"/>
                <a:ext cx="441360" cy="384120"/>
              </a:xfrm>
              <a:prstGeom prst="pie">
                <a:avLst/>
              </a:prstGeom>
              <a:solidFill>
                <a:srgbClr val="3dab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21160" y="3800160"/>
                <a:ext cx="527760" cy="459360"/>
              </a:xfrm>
              <a:prstGeom prst="pie">
                <a:avLst/>
              </a:prstGeom>
              <a:solidFill>
                <a:srgbClr val="3dab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63160" y="3969360"/>
                <a:ext cx="586440" cy="510120"/>
              </a:xfrm>
              <a:prstGeom prst="pie">
                <a:avLst/>
              </a:prstGeom>
              <a:solidFill>
                <a:srgbClr val="3dab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77960" y="3641760"/>
              <a:ext cx="6781680" cy="2667960"/>
              <a:chOff x="1677960" y="3641760"/>
              <a:chExt cx="6781680" cy="26679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4497120" y="5394240"/>
                <a:ext cx="990720" cy="838440"/>
                <a:chOff x="4497120" y="5394240"/>
                <a:chExt cx="990720" cy="838440"/>
              </a:xfrm>
            </p:grpSpPr>
            <p:sp>
              <p:nvSpPr>
                <p:cNvPr id="117" name="Gear"/>
                <p:cNvSpPr/>
                <p:nvPr/>
              </p:nvSpPr>
              <p:spPr>
                <a:xfrm>
                  <a:off x="5046480" y="5394240"/>
                  <a:ext cx="441360" cy="384480"/>
                </a:xfrm>
                <a:prstGeom prst="pie">
                  <a:avLst/>
                </a:prstGeom>
                <a:solidFill>
                  <a:srgbClr val="3dab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97120" y="5552640"/>
                  <a:ext cx="527760" cy="459720"/>
                </a:xfrm>
                <a:prstGeom prst="pie">
                  <a:avLst/>
                </a:prstGeom>
                <a:solidFill>
                  <a:srgbClr val="3dab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39480" y="5722200"/>
                  <a:ext cx="586440" cy="510480"/>
                </a:xfrm>
                <a:prstGeom prst="pie">
                  <a:avLst/>
                </a:prstGeom>
                <a:solidFill>
                  <a:srgbClr val="3dab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677960" y="3641760"/>
                <a:ext cx="6781680" cy="2667960"/>
                <a:chOff x="1677960" y="3641760"/>
                <a:chExt cx="6781680" cy="2667960"/>
              </a:xfrm>
            </p:grpSpPr>
            <p:graphicFrame>
              <p:nvGraphicFramePr>
                <p:cNvPr id="121" name=""/>
                <p:cNvGraphicFramePr/>
                <p:nvPr/>
              </p:nvGraphicFramePr>
              <p:xfrm>
                <a:off x="1677960" y="4403880"/>
                <a:ext cx="1761840" cy="11430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677960" y="4403880"/>
                          <a:ext cx="1761840" cy="1143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23" name=""/>
                <p:cNvGraphicFramePr/>
                <p:nvPr/>
              </p:nvGraphicFramePr>
              <p:xfrm>
                <a:off x="6249960" y="4403880"/>
                <a:ext cx="2209680" cy="11840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249960" y="4403880"/>
                          <a:ext cx="2209680" cy="1184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25" name=""/>
                <p:cNvSpPr/>
                <p:nvPr/>
              </p:nvSpPr>
              <p:spPr>
                <a:xfrm>
                  <a:off x="4163400" y="3641760"/>
                  <a:ext cx="13723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crementa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ode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Generato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380120" y="5392800"/>
                  <a:ext cx="12628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ogether®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ars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Engine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63960" y="4784760"/>
                  <a:ext cx="208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7800e"/>
                      </a:solidFill>
                      <a:latin typeface="Trebuchet MS"/>
                    </a:rPr>
                    <a:t>LiveSource™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868720" y="4022640"/>
                  <a:ext cx="1371600" cy="304920"/>
                </a:xfrm>
                <a:custGeom>
                  <a:avLst/>
                  <a:gdLst/>
                  <a:ahLst/>
                  <a:rect l="l" t="t" r="r" b="b"/>
                  <a:pathLst>
                    <a:path w="1344" h="144">
                      <a:moveTo>
                        <a:pt x="0" y="0"/>
                      </a:moveTo>
                      <a:lnTo>
                        <a:pt x="1344" y="0"/>
                      </a:lnTo>
                      <a:lnTo>
                        <a:pt x="1344" y="144"/>
                      </a:lnTo>
                    </a:path>
                  </a:pathLst>
                </a:custGeom>
                <a:noFill/>
                <a:ln w="38160">
                  <a:solidFill>
                    <a:srgbClr val="57800e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868720" y="5546880"/>
                  <a:ext cx="1371600" cy="304560"/>
                </a:xfrm>
                <a:custGeom>
                  <a:avLst/>
                  <a:gdLst/>
                  <a:ahLst/>
                  <a:rect l="l" t="t" r="r" b="b"/>
                  <a:pathLst>
                    <a:path w="1344" h="96">
                      <a:moveTo>
                        <a:pt x="1344" y="0"/>
                      </a:moveTo>
                      <a:lnTo>
                        <a:pt x="1344" y="96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8160">
                  <a:solidFill>
                    <a:srgbClr val="57800e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16040" y="4022640"/>
                  <a:ext cx="1447920" cy="304920"/>
                </a:xfrm>
                <a:custGeom>
                  <a:avLst/>
                  <a:gdLst/>
                  <a:ahLst/>
                  <a:rect l="l" t="t" r="r" b="b"/>
                  <a:pathLst>
                    <a:path w="1296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296" y="0"/>
                      </a:lnTo>
                    </a:path>
                  </a:pathLst>
                </a:custGeom>
                <a:noFill/>
                <a:ln w="38160">
                  <a:solidFill>
                    <a:srgbClr val="57800e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516040" y="5622840"/>
                  <a:ext cx="1447920" cy="304920"/>
                </a:xfrm>
                <a:custGeom>
                  <a:avLst/>
                  <a:gdLst/>
                  <a:ahLst/>
                  <a:rect l="l" t="t" r="r" b="b"/>
                  <a:pathLst>
                    <a:path w="1296" h="96">
                      <a:moveTo>
                        <a:pt x="1296" y="96"/>
                      </a:moveTo>
                      <a:lnTo>
                        <a:pt x="0" y="9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57800e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Documentation Gener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097080" cy="30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4114800" cy="2148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1343160"/>
            <a:ext cx="54831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476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MS UI Gothic"/>
              </a:rPr>
              <a:t>UML Documentation Wizar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476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MS UI Gothic"/>
              </a:rPr>
              <a:t>HTML Generation Document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Bef>
                <a:spcPts val="349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 UI Gothic"/>
              </a:rPr>
              <a:t>The HTML documentation contains three frame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 UI Gothic"/>
              </a:rPr>
              <a:t>Diagram 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 UI Gothic"/>
              </a:rPr>
              <a:t>Project and Overview 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 UI Gothic"/>
              </a:rPr>
              <a:t>Documentation fra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23:26:34Z</dcterms:created>
  <dc:creator>Julie Wider</dc:creator>
  <dc:description/>
  <dc:language>en-US</dc:language>
  <cp:lastModifiedBy>Fredrik Haglund</cp:lastModifiedBy>
  <dcterms:modified xsi:type="dcterms:W3CDTF">2006-12-07T09:24:42Z</dcterms:modified>
  <cp:revision>176</cp:revision>
  <dc:subject/>
  <dc:title>Website Examples</dc:title>
</cp:coreProperties>
</file>