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0524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6328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720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0524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46328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47560" y="1815840"/>
            <a:ext cx="7407360" cy="80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0524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63280" y="362088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4720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0524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63280" y="4283640"/>
            <a:ext cx="1864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7560" y="1815840"/>
            <a:ext cx="7407360" cy="80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15040" y="428364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720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15040" y="3620880"/>
            <a:ext cx="2826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7200" y="4283640"/>
            <a:ext cx="57913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5000"/>
              </a:lnSpc>
              <a:spcBef>
                <a:spcPts val="601"/>
              </a:spcBef>
              <a:buClr>
                <a:srgbClr val="3dabbd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1295280"/>
            <a:ext cx="8991360" cy="5486400"/>
          </a:xfrm>
          <a:prstGeom prst="rect">
            <a:avLst/>
          </a:prstGeom>
          <a:noFill/>
          <a:ln w="9360">
            <a:solidFill>
              <a:srgbClr val="0f8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629400" y="6095880"/>
            <a:ext cx="2286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7560" y="1815840"/>
            <a:ext cx="74073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9360">
            <a:solidFill>
              <a:srgbClr val="0f8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629400" y="6095880"/>
            <a:ext cx="2286000" cy="571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6880" y="6210360"/>
            <a:ext cx="2000520" cy="44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lvl="1" marL="457200" indent="0" algn="ctr"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5000"/>
              </a:lnSpc>
              <a:spcBef>
                <a:spcPts val="499"/>
              </a:spcBef>
              <a:buClr>
                <a:srgbClr val="3dabbd"/>
              </a:buClr>
              <a:buSzPct val="9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lnSpc>
                <a:spcPct val="95000"/>
              </a:lnSpc>
              <a:spcBef>
                <a:spcPts val="451"/>
              </a:spcBef>
              <a:buClr>
                <a:srgbClr val="3dabbd"/>
              </a:buClr>
              <a:buSzPct val="90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7200" y="1815840"/>
            <a:ext cx="80629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lphi Migration Seminar og Worksho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47200" y="3620880"/>
            <a:ext cx="5791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Fredrik Haglund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abbd"/>
                </a:solidFill>
                <a:latin typeface="Arial Narrow"/>
              </a:rPr>
              <a:t>Developer Evangelist</a:t>
            </a: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abb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6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lphi Migration Seminar og Worksho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61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08:30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Regist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09:00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Company Update, New Releases and Road Ma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09:30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What is New in Delphi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10:15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10:30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Migrate Your Application to Delphi 2006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10:45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Make you Delphi Application ready for Windows Vist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11:45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Lunch brea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12:45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Migration Worksh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17:00</a:t>
            </a:r>
            <a:r>
              <a:rPr b="0" lang="nb-NO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nb-NO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65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Thank you! </a:t>
            </a:r>
            <a:r>
              <a:rPr b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23:26:34Z</dcterms:created>
  <dc:creator>Julie Wider</dc:creator>
  <dc:description/>
  <dc:language>en-US</dc:language>
  <cp:lastModifiedBy>Fredrik Haglund</cp:lastModifiedBy>
  <dcterms:modified xsi:type="dcterms:W3CDTF">2006-12-06T21:31:27Z</dcterms:modified>
  <cp:revision>176</cp:revision>
  <dc:subject/>
  <dc:title>Website Examples</dc:title>
</cp:coreProperties>
</file>