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7200" y="428364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1504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0524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6328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720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50524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46328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47560" y="1815840"/>
            <a:ext cx="7407360" cy="80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1504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7200" y="428364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51504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524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46328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4720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50524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46328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7560" y="1815840"/>
            <a:ext cx="7407360" cy="80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1504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1295280"/>
            <a:ext cx="8991360" cy="5486400"/>
          </a:xfrm>
          <a:prstGeom prst="rect">
            <a:avLst/>
          </a:prstGeom>
          <a:noFill/>
          <a:ln w="9360">
            <a:solidFill>
              <a:srgbClr val="0f8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8400" y="64771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ff"/>
                </a:solidFill>
                <a:latin typeface="Arial"/>
                <a:ea typeface="ＭＳ Ｐゴシック"/>
              </a:rPr>
              <a:t>Borland Developer Tools Group (DT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9360">
            <a:solidFill>
              <a:srgbClr val="0f8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8400" y="64771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ff"/>
                </a:solidFill>
                <a:latin typeface="Arial"/>
                <a:ea typeface="ＭＳ Ｐゴシック"/>
              </a:rPr>
              <a:t>Borland Developer Tools Group (DT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abbd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  <a:p>
            <a:pPr lvl="1" marL="457200" indent="0" algn="ctr">
              <a:lnSpc>
                <a:spcPct val="9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47200" y="1815840"/>
            <a:ext cx="80629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igrating Your Applica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abbd"/>
                </a:solidFill>
                <a:latin typeface="Arial Narrow"/>
              </a:rPr>
              <a:t>Fredrik Haglund</a:t>
            </a: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abbd"/>
                </a:solidFill>
                <a:latin typeface="Arial Narrow"/>
              </a:rPr>
              <a:t>Developer Evangelist</a:t>
            </a: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trateg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ventory 3rd Party Compon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With/Without Source?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ownload/Purchase lates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 Migrate (Goal: Identify Issues and Quantify Work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lean Targe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uild Packag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mpile, Fix, Compile, Fix…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est Ru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gr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One-Shot or Backward compatible? Use IFDEF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ventory 3rd Party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ually the Largest Issue during Mig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uy always components with Source! – Future compati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you have problems – Ask us for help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ean Targe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 is usually best to copy project to new loc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ete all intermediate files and packag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CU DCP BPL (DCUIL DCPIL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ke sure no search paths points to old c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Library Path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oject Path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uild Component Packag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 Path to Run-Time Packag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x Conditional Defines if no new sour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uick fix: Define VER130 if components source is for Delphi 7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ings to Fix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move own copies of library uni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mmon problem is own copy of Consts, DBConsts, etc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iler finds more erro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ved functionalit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Variants Unit introduced after Delphi 5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ffice Server Compon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New Unit Nam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Office Automation has change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preca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TServerSocket, TClientSocke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atabase Strateg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DE is Depreca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grade BDE to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bGO (MDAC 2.8 = old ADO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BExpres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bExpres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bExpress works like ADO.NET with disconnected record se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DE to dbExpress requiers more work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mbedd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terBase has an embedded version in Road Map (like a DLL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NDataStore – Managed Embedded Database (?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365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Questions &amp; Answer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23:26:34Z</dcterms:created>
  <dc:creator>Julie Wider</dc:creator>
  <dc:description/>
  <dc:language>en-US</dc:language>
  <cp:lastModifiedBy>Fredrik Haglund</cp:lastModifiedBy>
  <dcterms:modified xsi:type="dcterms:W3CDTF">2006-11-07T07:33:29Z</dcterms:modified>
  <cp:revision>174</cp:revision>
  <dc:subject/>
  <dc:title>Website Examples</dc:title>
</cp:coreProperties>
</file>