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3.jpeg" ContentType="image/jpeg"/>
  <Override PartName="/ppt/media/image1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3C39-F41F-41FC-AB67-E7C5BDC5F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57FF-1033-43C2-8343-3CA8A2891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84ED-5908-493E-BCDB-C1A31A742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5A93-B752-430B-B7C5-3C77FF337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3501-3E52-4F20-A78E-F937FA56A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3C40-50A9-4831-9BB0-C94E458D8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B80E-5B7B-4433-B953-B6E8654E5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5B64-BA0C-43E2-9483-E94CCB2E4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E81C-40ED-4FED-8CE3-1859689BD34F}"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713C-C0E7-42BD-B27E-E6748BE4E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E090-DA8E-4CF5-87FF-8C0F58711DE6}"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18F2-8C9F-4ECF-B02F-1D392B9A2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37B3-D3C1-47C7-965A-724EDD2CB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E2F5-1DBA-4D12-B0EB-C32ACDABE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64B7-29C8-4667-857B-0A554DB9DFF6}"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A0003A91-B008-4B05-BF2E-D4D949ABAD6D}"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285"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BBDB-18ED-4C3C-8D4A-54D8B8F2A1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287" name="TextBox 79257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B089-50B0-4BE3-BA9C-2CF7438C5E03}"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5FDE191B-6126-4E07-82BF-DF1FC0E6D7D3}"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288" name="TextBox 79257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220E-E3B7-453E-9694-1D7F6F38F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TextBox 79257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290" name="PlaceHolder 1"/>
          <p:cNvSpPr>
            <a:spLocks noGrp="1"/>
          </p:cNvSpPr>
          <p:nvPr>
            <p:ph type="sldImg"/>
          </p:nvPr>
        </p:nvSpPr>
        <p:spPr>
          <a:xfrm>
            <a:off x="114444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292" name="Rectangle 79258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BBB75C2-8E0C-4E12-B35E-705732351CF6}"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6C106B06-EC55-430F-BB9E-093A5E5EFFD9}"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293" name="Rectangle 792583"/>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294" name="Rectangle 792584"/>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615BD07-C42A-4A38-AABA-6EBB29122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Rectangle 792585"/>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2F78-9BDA-4C35-B082-FE9F3F7BB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9BC1-63FF-4AF0-B052-CEF93C4417F7}"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094D5A0E-CD67-40A1-AA5E-3B35BD0AC85C}"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298"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7225-7D84-46A2-8AF9-59AA005C8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00" name="TextBox 794625"/>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1962-67FD-4D19-A5E0-02D0E592D800}"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942834C8-E069-4903-AC71-0327B98B4270}"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01" name="TextBox 794626"/>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9E0A-B660-44DD-A144-AE3C01EA06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TextBox 794627"/>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03" name="PlaceHolder 1"/>
          <p:cNvSpPr>
            <a:spLocks noGrp="1"/>
          </p:cNvSpPr>
          <p:nvPr>
            <p:ph type="sldImg"/>
          </p:nvPr>
        </p:nvSpPr>
        <p:spPr>
          <a:xfrm>
            <a:off x="114444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05" name="Rectangle 794630"/>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8522EE9A-B1AD-46FD-92DF-B025E381CFA1}"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6D3814EF-FA3D-4E9C-9C06-E0BC8CBD5305}"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06" name="Rectangle 794631"/>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4C31168-98FE-41B3-B257-A6BB694C53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Rectangle 794632"/>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B1E8-95DA-4FF9-B846-A791DEB52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0A90-AE4E-4FB2-9807-18393FED5340}"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893E9693-F3D9-46B2-AFFA-C3BD8863F394}"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10"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D606-2D5D-464F-B29B-82BF7108B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12" name="TextBox 79667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FBC0-7044-43D5-9AAE-3FE160A46C7A}"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CB7839E6-170A-4066-8770-A6F3886F1779}"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13" name="TextBox 79667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5FE7-3333-423E-9850-B0FEACF0F0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TextBox 79667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15" name="PlaceHolder 1"/>
          <p:cNvSpPr>
            <a:spLocks noGrp="1"/>
          </p:cNvSpPr>
          <p:nvPr>
            <p:ph type="sldImg"/>
          </p:nvPr>
        </p:nvSpPr>
        <p:spPr>
          <a:xfrm>
            <a:off x="114444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17" name="Rectangle 79667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04860307-AC27-42C0-B7A6-97A1DF53F295}"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752F8315-E353-4BAD-AC2F-1D40B1639BD3}"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18" name="Rectangle 796679"/>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5A9F782-B00F-4A16-9CDE-FF50D102C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Rectangle 796680"/>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157A-0152-4AC7-B56E-380EF992A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23A7-8053-47EC-893E-44EEDCA6C407}"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3AE4FB42-B9FC-46A1-867E-E1F0F24DCA24}"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22"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ABC6-E23E-43B7-8F94-1F734735D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24" name="TextBox 798721"/>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1F85-AF63-4958-92CF-A03E1B4DDD6A}"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AF9DF14A-3DDC-4293-A605-F88C24676A05}"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25" name="TextBox 798722"/>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C2F5-8D9C-444F-93E4-9807022CF9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TextBox 798723"/>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27" name="PlaceHolder 1"/>
          <p:cNvSpPr>
            <a:spLocks noGrp="1"/>
          </p:cNvSpPr>
          <p:nvPr>
            <p:ph type="sldImg"/>
          </p:nvPr>
        </p:nvSpPr>
        <p:spPr>
          <a:xfrm>
            <a:off x="114444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29" name="Rectangle 798726"/>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09FC6870-A195-4A9D-A7A0-E5B6001F1FF5}"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B38410E3-679F-4088-B8A9-288F92E608F4}"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30" name="Rectangle 798727"/>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8EB927F-3361-4193-965B-761B40245F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Rectangle 798728"/>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D974-0243-42FB-B452-50DFBF2D9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F361-FFCC-4FB3-BA52-505C7BB07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6C77-2461-4DA0-BAD9-4BD17A852D15}"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0FDEA72F-55E0-4165-89CA-C60BBED2B75A}"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37"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360D-27B3-4F69-B5FB-F5EDD811B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39" name="TextBox 80179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AB14-FFA3-4BCD-96C9-F5954C967B52}"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A5620375-FD3B-4E8E-B25E-213350B7A8A5}"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40" name="TextBox 80179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E341-EB04-4144-8FE3-12025F3252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TextBox 80179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42" name="PlaceHolder 1"/>
          <p:cNvSpPr>
            <a:spLocks noGrp="1"/>
          </p:cNvSpPr>
          <p:nvPr>
            <p:ph type="sldImg"/>
          </p:nvPr>
        </p:nvSpPr>
        <p:spPr>
          <a:xfrm>
            <a:off x="114444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44" name="Rectangle 80179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88A9BAF9-C91F-4357-8828-BAA91B4BA69A}"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80306820-DEFF-42E0-83FA-06EC19A7ED04}"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45" name="Rectangle 801799"/>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7F3793DF-C13A-47FD-B3AA-9EB5550705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Rectangle 801800"/>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E634-D31D-4507-AF89-E132255C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C340-2287-400A-975F-678598DC6DAE}"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9F8D9F40-0831-4774-BD00-14082B3B4CDE}"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49"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9BD6-8EA4-468A-8227-421C75FC6C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51" name="TextBox 803841"/>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1578-4B40-48EB-A252-B6AF2F3710DF}"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E96B1385-ED23-4BA4-9213-289FC09C469E}"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52" name="TextBox 803842"/>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2013-14EA-42B2-A9C4-6BBDE3B9F3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TextBox 803843"/>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54" name="PlaceHolder 1"/>
          <p:cNvSpPr>
            <a:spLocks noGrp="1"/>
          </p:cNvSpPr>
          <p:nvPr>
            <p:ph type="sldImg"/>
          </p:nvPr>
        </p:nvSpPr>
        <p:spPr>
          <a:xfrm>
            <a:off x="114444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56" name="Rectangle 803846"/>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5EB01AE-B873-4D53-90BA-90F74143C91C}"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734BE07C-CA39-439F-B2D8-D77A2781D030}"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57" name="Rectangle 803847"/>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51042AA6-31A7-4C5F-8578-C51AB07452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Rectangle 803848"/>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C016-B041-436B-BC8C-BDE2B705B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393A-09ED-423D-9FEB-1F0E34BB9B18}"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523F1B1A-9444-47FA-A07C-4B90B4146895}"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61"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592D-2AF2-4399-BCB2-358A23C424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63" name="TextBox 805889"/>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FE8C-98F3-4CA7-808E-261C902A1FBD}"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7A8798E0-9A11-4CA8-B211-F493FFD5BD26}"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64" name="TextBox 805890"/>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4582-F9CC-4B75-9AC8-211D1BC17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TextBox 805891"/>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68" name="Rectangle 805894"/>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3F4001CD-A42B-4A69-9217-B2CE44C94816}"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7F1CB154-896F-495D-B665-B325F10B6B74}"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69" name="Rectangle 805895"/>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E3E3B831-5464-44E2-81EE-2FBF2B8177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Rectangle 805896"/>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B4B2-4C18-4651-949E-F2E91D292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137B-36C2-45F9-B217-E82899F6D322}"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BECE285B-1EBC-48F0-BA34-3B0029259729}"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73"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68AE-23ED-4393-A9B3-B20FB0B92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75" name="TextBox 80793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FBF8-E05B-4EC9-AAA0-71D7EA3993C5}"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EB50EAFB-A0EB-48C5-B5E1-EDEFD79A89AA}"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76" name="TextBox 80793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3118-38C5-4E30-A44F-3D560E147D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TextBox 80793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78" name="PlaceHolder 1"/>
          <p:cNvSpPr>
            <a:spLocks noGrp="1"/>
          </p:cNvSpPr>
          <p:nvPr>
            <p:ph type="sldImg"/>
          </p:nvPr>
        </p:nvSpPr>
        <p:spPr>
          <a:xfrm>
            <a:off x="114444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80" name="Rectangle 80794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87EC1E3-3E35-46FA-9A21-82551AA6B65A}"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BA8081C6-F32B-43D7-A2A3-18B89740C171}"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81" name="Rectangle 807943"/>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5829BDA-D76C-4458-B3B3-A7BED6BC4F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Rectangle 807944"/>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A748-068B-491D-BFE5-3C7381781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Shap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BD11-4451-4AA7-9EDF-F68D57AA7467}"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6AB406C7-04F0-4DB9-B79B-99C16DAEF425}"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85" name="Shape 10"/>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1742-A6D2-47EC-9C72-57699118A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Shape 11"/>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87" name="TextBox 809985"/>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5BF5-946E-4F5D-8B93-999DE2C2C28F}"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18B44F4A-1184-4C2E-8EC8-2BF9E2DA324B}"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88" name="TextBox 809986"/>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4F76-AC83-4850-A85E-219A434709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TextBox 809987"/>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390" name="PlaceHolder 1"/>
          <p:cNvSpPr>
            <a:spLocks noGrp="1"/>
          </p:cNvSpPr>
          <p:nvPr>
            <p:ph type="sldImg"/>
          </p:nvPr>
        </p:nvSpPr>
        <p:spPr>
          <a:xfrm>
            <a:off x="114444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392" name="Rectangle 809990"/>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804DDF2E-33C0-45E3-8601-A75261D9E3A4}"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B97A44C3-7E64-4C95-B787-BC6C7381B810}"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93" name="Rectangle 809991"/>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ACA92A4E-90F8-4E3F-8CEE-3CA457EE4B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Rectangle 809992"/>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4AB3-53B9-4447-9262-A053E7E5E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73E1-DB4A-4639-AFD0-46C76F1A3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C9C0-B5E1-4900-82DB-4EDCE4EF7033}"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82F165D8-F79E-4A70-9584-77C6BEF48667}"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397"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A66C-1E66-47F6-876A-8BEE6C128A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399" name="TextBox 81203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F5C7-10BD-4402-9BA6-958D0D171B11}"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3229DD2E-C6EE-405A-8630-F0A970CAE10B}"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400" name="TextBox 812034"/>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83E5-AFFC-4034-B1F9-1600814F17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TextBox 812035"/>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402" name="PlaceHolder 1"/>
          <p:cNvSpPr>
            <a:spLocks noGrp="1"/>
          </p:cNvSpPr>
          <p:nvPr>
            <p:ph type="sldImg"/>
          </p:nvPr>
        </p:nvSpPr>
        <p:spPr>
          <a:xfrm>
            <a:off x="114444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04" name="Rectangle 812038"/>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386F840-B695-49A2-95D2-D491056A70AE}"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A208898B-A204-4F22-AEFD-D8058D0B46E3}"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405" name="Rectangle 812039"/>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406" name="Rectangle 812040"/>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37E69C1-7FB2-47E3-ADAD-67CCF9100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Rectangle 812041"/>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EFEA-4E96-4081-85C6-B6ADDC571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8A93-2A7B-47E4-B531-56BDBC3A2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Shape 10"/>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25EA-F9C8-45AC-B161-6290238F7FF0}"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6E2AAB9B-59AF-4A92-A599-C093570509B9}"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413" name="Shape 11"/>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43D0-7FBE-41F8-A591-ED172932D3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Shape 12"/>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 2005 Microsoft Corporation. All rights reserv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415" name="TextBox 818177"/>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9EAF-BB8F-4935-BA75-4A2FB993CDC6}"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162B89E4-2A9B-4E77-8906-63743807C427}"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416" name="TextBox 818178"/>
          <p:cNvSpPr/>
          <p:nvPr/>
        </p:nvSpPr>
        <p:spPr>
          <a:xfrm>
            <a:off x="5583240" y="8685360"/>
            <a:ext cx="12733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E4F6-6811-434A-A62B-BDFCD759FD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TextBox 818179"/>
          <p:cNvSpPr/>
          <p:nvPr/>
        </p:nvSpPr>
        <p:spPr>
          <a:xfrm>
            <a:off x="0" y="8791560"/>
            <a:ext cx="5667480" cy="35100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000000"/>
                </a:solidFill>
                <a:latin typeface="Segoe Semibold"/>
              </a:rPr>
              <a:t>MICROSOFT MAKES NO WARRANTIES, EXPRESS, IMPLIED OR STATUTORY, AS TO THE INFORMATION IN THIS PRESENTATION.</a:t>
            </a:r>
            <a:endParaRPr b="0" lang="en-US" sz="700" spc="-1" strike="noStrike">
              <a:solidFill>
                <a:srgbClr val="000000"/>
              </a:solidFill>
              <a:latin typeface="Arial"/>
            </a:endParaRPr>
          </a:p>
        </p:txBody>
      </p:sp>
      <p:sp>
        <p:nvSpPr>
          <p:cNvPr id="418" name="PlaceHolder 1"/>
          <p:cNvSpPr>
            <a:spLocks noGrp="1"/>
          </p:cNvSpPr>
          <p:nvPr>
            <p:ph type="sldImg"/>
          </p:nvPr>
        </p:nvSpPr>
        <p:spPr>
          <a:xfrm>
            <a:off x="114444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420" name="Rectangle 818182"/>
          <p:cNvSpPr/>
          <p:nvPr/>
        </p:nvSpPr>
        <p:spPr>
          <a:xfrm>
            <a:off x="3884760" y="0"/>
            <a:ext cx="2971800" cy="45720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970FF39-757B-4B34-B8CC-B656BE9A5D49}"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5DA92CEF-16B9-49B2-BED3-DC0F09E66EA0}" type="datetime10">
              <a:rPr b="0" lang="en-US" sz="1200" spc="-1" strike="noStrike">
                <a:solidFill>
                  <a:srgbClr val="000000"/>
                </a:solidFill>
                <a:latin typeface="Times New Roman"/>
              </a:rPr>
              <a:t>17:38</a:t>
            </a:fld>
            <a:endParaRPr b="0" lang="en-US" sz="1200" spc="-1" strike="noStrike">
              <a:solidFill>
                <a:srgbClr val="000000"/>
              </a:solidFill>
              <a:latin typeface="Arial"/>
            </a:endParaRPr>
          </a:p>
        </p:txBody>
      </p:sp>
      <p:sp>
        <p:nvSpPr>
          <p:cNvPr id="421" name="Rectangle 818183"/>
          <p:cNvSpPr/>
          <p:nvPr/>
        </p:nvSpPr>
        <p:spPr>
          <a:xfrm>
            <a:off x="0" y="8685360"/>
            <a:ext cx="5675400" cy="45720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 2005 Microsoft Corporation. All rights reserved.</a:t>
            </a:r>
            <a:endParaRPr b="0" lang="en-US" sz="8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000000"/>
                </a:solidFill>
                <a:latin typeface="Arial"/>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422" name="Rectangle 818184"/>
          <p:cNvSpPr/>
          <p:nvPr/>
        </p:nvSpPr>
        <p:spPr>
          <a:xfrm>
            <a:off x="5762520" y="8685360"/>
            <a:ext cx="1094040" cy="45720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35EA972-7D90-402D-971A-B8F0366A9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Rectangle 818185"/>
          <p:cNvSpPr/>
          <p:nvPr/>
        </p:nvSpPr>
        <p:spPr>
          <a:xfrm>
            <a:off x="0" y="0"/>
            <a:ext cx="2971800" cy="45720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8546-A062-4443-A00C-58FEFD50A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22B7-AAC2-42A5-A7F9-25DDBF996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B0BA-1698-4878-ACF2-102C586C9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B2A2-AE10-4DEC-A160-5663B1637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7BA2-9F79-4CD9-8BF4-34C6B9C96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4066-06C3-49E0-80CF-FA39485D7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CF82-08AD-46DF-8818-970B0876E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0272-9F9F-4F99-8BD8-599B8E16F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9B8B-C6C3-4243-82CD-2EEF5AFF6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6FAA-3A10-4C38-B958-9390202E6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EDDC-D887-4332-AD38-8B35822A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5201-22E4-4D40-972F-CC4E1E11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80C5-3B38-4075-B93A-A7F3BB4DD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6E4B-867F-45E5-9AE1-8848E188D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1EAA-C9CB-44A3-BEB5-AD4F495DD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BB43-5A69-4FC6-BD2B-E0FFD6BCE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0B33-9A6A-48D4-B457-2C25692D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DEA6-2349-4253-BFA3-EA2FB9E06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A411-A63A-405F-8AED-6A72813CF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00BB-5751-4009-912E-3DBD200E4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58F9-0BF4-42A9-B2E3-957E11489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09E5-76D4-45D8-98D3-C75554A67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427C-03D2-4C7C-8E32-DBAB77CCF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7" descr="CodeGear_Black_no_BG_Med"/>
          <p:cNvPicPr/>
          <p:nvPr/>
        </p:nvPicPr>
        <p:blipFill>
          <a:blip r:embed="rId2"/>
          <a:stretch/>
        </p:blipFill>
        <p:spPr>
          <a:xfrm>
            <a:off x="7620120" y="6222960"/>
            <a:ext cx="1371600" cy="482760"/>
          </a:xfrm>
          <a:prstGeom prst="rect">
            <a:avLst/>
          </a:prstGeom>
          <a:ln w="0">
            <a:noFill/>
          </a:ln>
        </p:spPr>
      </p:pic>
      <p:sp>
        <p:nvSpPr>
          <p:cNvPr id="3" name="Rectangle 10"/>
          <p:cNvSpPr/>
          <p:nvPr/>
        </p:nvSpPr>
        <p:spPr>
          <a:xfrm>
            <a:off x="0" y="0"/>
            <a:ext cx="380880" cy="6858000"/>
          </a:xfrm>
          <a:prstGeom prst="rect">
            <a:avLst/>
          </a:prstGeom>
          <a:solidFill>
            <a:srgbClr val="fa462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11"/>
          <p:cNvSpPr/>
          <p:nvPr/>
        </p:nvSpPr>
        <p:spPr>
          <a:xfrm>
            <a:off x="3049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143000"/>
            <a:ext cx="9144000" cy="5562720"/>
          </a:xfrm>
          <a:prstGeom prst="rect">
            <a:avLst/>
          </a:prstGeom>
          <a:solidFill>
            <a:srgbClr val="6d6d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9"/>
          <p:cNvSpPr/>
          <p:nvPr/>
        </p:nvSpPr>
        <p:spPr>
          <a:xfrm>
            <a:off x="0" y="4495680"/>
            <a:ext cx="9144000" cy="1219320"/>
          </a:xfrm>
          <a:prstGeom prst="rect">
            <a:avLst/>
          </a:prstGeom>
          <a:solidFill>
            <a:srgbClr val="3b3b3b"/>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9" descr="CodeGear_Black_on_white_NoTag"/>
          <p:cNvPicPr/>
          <p:nvPr/>
        </p:nvPicPr>
        <p:blipFill>
          <a:blip r:embed="rId2"/>
          <a:stretch/>
        </p:blipFill>
        <p:spPr>
          <a:xfrm>
            <a:off x="228600" y="189000"/>
            <a:ext cx="2895480" cy="725400"/>
          </a:xfrm>
          <a:prstGeom prst="rect">
            <a:avLst/>
          </a:prstGeom>
          <a:ln w="0">
            <a:noFill/>
          </a:ln>
        </p:spPr>
      </p:pic>
      <p:grpSp>
        <p:nvGrpSpPr>
          <p:cNvPr id="44" name="Group 21"/>
          <p:cNvGrpSpPr/>
          <p:nvPr/>
        </p:nvGrpSpPr>
        <p:grpSpPr>
          <a:xfrm>
            <a:off x="7696080" y="4572000"/>
            <a:ext cx="1219320" cy="1066680"/>
            <a:chOff x="7696080" y="4572000"/>
            <a:chExt cx="1219320" cy="1066680"/>
          </a:xfrm>
        </p:grpSpPr>
        <p:pic>
          <p:nvPicPr>
            <p:cNvPr id="45" name="Picture 20" descr="MPj02891130000[1]"/>
            <p:cNvPicPr/>
            <p:nvPr/>
          </p:nvPicPr>
          <p:blipFill>
            <a:blip r:embed="rId3"/>
            <a:stretch/>
          </p:blipFill>
          <p:spPr>
            <a:xfrm>
              <a:off x="7696080" y="4572000"/>
              <a:ext cx="1219320" cy="1066680"/>
            </a:xfrm>
            <a:prstGeom prst="rect">
              <a:avLst/>
            </a:prstGeom>
            <a:ln w="0">
              <a:noFill/>
            </a:ln>
          </p:spPr>
        </p:pic>
        <p:sp>
          <p:nvSpPr>
            <p:cNvPr id="46" name="Rectangle 11"/>
            <p:cNvSpPr/>
            <p:nvPr/>
          </p:nvSpPr>
          <p:spPr>
            <a:xfrm>
              <a:off x="7696080" y="4572000"/>
              <a:ext cx="1219320" cy="1066680"/>
            </a:xfrm>
            <a:prstGeom prst="rect">
              <a:avLst/>
            </a:prstGeom>
            <a:solidFill>
              <a:srgbClr val="fa4622">
                <a:alpha val="59000"/>
              </a:srgbClr>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Line 26"/>
          <p:cNvSpPr/>
          <p:nvPr/>
        </p:nvSpPr>
        <p:spPr>
          <a:xfrm>
            <a:off x="0" y="12193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 name="Group 27"/>
          <p:cNvGrpSpPr/>
          <p:nvPr/>
        </p:nvGrpSpPr>
        <p:grpSpPr>
          <a:xfrm>
            <a:off x="4876920" y="4572000"/>
            <a:ext cx="1218960" cy="1066680"/>
            <a:chOff x="4876920" y="4572000"/>
            <a:chExt cx="1218960" cy="1066680"/>
          </a:xfrm>
        </p:grpSpPr>
        <p:pic>
          <p:nvPicPr>
            <p:cNvPr id="49" name="Picture 28" descr="MPj02891130000[1]"/>
            <p:cNvPicPr/>
            <p:nvPr/>
          </p:nvPicPr>
          <p:blipFill>
            <a:blip r:embed="rId4"/>
            <a:stretch/>
          </p:blipFill>
          <p:spPr>
            <a:xfrm>
              <a:off x="4876920" y="4572000"/>
              <a:ext cx="1218960" cy="1066680"/>
            </a:xfrm>
            <a:prstGeom prst="rect">
              <a:avLst/>
            </a:prstGeom>
            <a:ln w="0">
              <a:noFill/>
            </a:ln>
          </p:spPr>
        </p:pic>
        <p:sp>
          <p:nvSpPr>
            <p:cNvPr id="50" name="Rectangle 29"/>
            <p:cNvSpPr/>
            <p:nvPr/>
          </p:nvSpPr>
          <p:spPr>
            <a:xfrm>
              <a:off x="4876920" y="4572000"/>
              <a:ext cx="1218960" cy="1066680"/>
            </a:xfrm>
            <a:prstGeom prst="rect">
              <a:avLst/>
            </a:prstGeom>
            <a:solidFill>
              <a:srgbClr val="fa4622">
                <a:alpha val="59000"/>
              </a:srgbClr>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30"/>
          <p:cNvGrpSpPr/>
          <p:nvPr/>
        </p:nvGrpSpPr>
        <p:grpSpPr>
          <a:xfrm>
            <a:off x="6248520" y="4572000"/>
            <a:ext cx="1295280" cy="1066680"/>
            <a:chOff x="6248520" y="4572000"/>
            <a:chExt cx="1295280" cy="1066680"/>
          </a:xfrm>
        </p:grpSpPr>
        <p:pic>
          <p:nvPicPr>
            <p:cNvPr id="52" name="Picture 31" descr=""/>
            <p:cNvPicPr/>
            <p:nvPr/>
          </p:nvPicPr>
          <p:blipFill>
            <a:blip r:embed="rId5"/>
            <a:stretch/>
          </p:blipFill>
          <p:spPr>
            <a:xfrm>
              <a:off x="6254280" y="4578120"/>
              <a:ext cx="1279800" cy="1049040"/>
            </a:xfrm>
            <a:prstGeom prst="rect">
              <a:avLst/>
            </a:prstGeom>
            <a:ln w="9360">
              <a:solidFill>
                <a:srgbClr val="fa4622"/>
              </a:solidFill>
              <a:miter/>
            </a:ln>
          </p:spPr>
        </p:pic>
        <p:grpSp>
          <p:nvGrpSpPr>
            <p:cNvPr id="53" name="Rectangle 32"/>
            <p:cNvGrpSpPr/>
            <p:nvPr/>
          </p:nvGrpSpPr>
          <p:grpSpPr>
            <a:xfrm>
              <a:off x="6248520" y="4572000"/>
              <a:ext cx="1295280" cy="1066680"/>
              <a:chOff x="6248520" y="4572000"/>
              <a:chExt cx="1295280" cy="1066680"/>
            </a:xfrm>
          </p:grpSpPr>
          <p:pic>
            <p:nvPicPr>
              <p:cNvPr id="54" name="Rectangle 32" descr=""/>
              <p:cNvPicPr/>
              <p:nvPr/>
            </p:nvPicPr>
            <p:blipFill>
              <a:blip r:embed="rId6"/>
              <a:stretch/>
            </p:blipFill>
            <p:spPr>
              <a:xfrm>
                <a:off x="6248520" y="4572000"/>
                <a:ext cx="1295280" cy="1066680"/>
              </a:xfrm>
              <a:prstGeom prst="rect">
                <a:avLst/>
              </a:prstGeom>
              <a:ln w="0">
                <a:noFill/>
              </a:ln>
            </p:spPr>
          </p:pic>
          <p:sp>
            <p:nvSpPr>
              <p:cNvPr id="55" name=""/>
              <p:cNvSpPr/>
              <p:nvPr/>
            </p:nvSpPr>
            <p:spPr>
              <a:xfrm>
                <a:off x="6254280" y="4577760"/>
                <a:ext cx="1280520" cy="105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lphi 2007 and Windows Vista</a:t>
            </a:r>
            <a:endParaRPr b="0" lang="en-US" sz="3600" spc="-1" strike="noStrike">
              <a:solidFill>
                <a:srgbClr val="000000"/>
              </a:solidFill>
              <a:latin typeface="Arial"/>
            </a:endParaRPr>
          </a:p>
        </p:txBody>
      </p:sp>
      <p:sp>
        <p:nvSpPr>
          <p:cNvPr id="102" name="PlaceHolder 2"/>
          <p:cNvSpPr>
            <a:spLocks noGrp="1"/>
          </p:cNvSpPr>
          <p:nvPr>
            <p:ph type="subTitle"/>
          </p:nvPr>
        </p:nvSpPr>
        <p:spPr>
          <a:xfrm>
            <a:off x="151920" y="5790960"/>
            <a:ext cx="8991720" cy="533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drik Haglund – EMEA Delphi L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Vist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C is Enabled by Defau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bsequent User Accounts are Created as </a:t>
            </a:r>
            <a:r>
              <a:rPr b="1" lang="en-US" sz="2800" spc="-1" strike="noStrike">
                <a:solidFill>
                  <a:srgbClr val="000000"/>
                </a:solidFill>
                <a:latin typeface="Arial"/>
              </a:rPr>
              <a:t>Standard Us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 Prompts are Displayed on the </a:t>
            </a:r>
            <a:r>
              <a:rPr b="1" lang="en-US" sz="2800" spc="-1" strike="noStrike">
                <a:solidFill>
                  <a:srgbClr val="000000"/>
                </a:solidFill>
                <a:latin typeface="Arial"/>
              </a:rPr>
              <a:t>Secure Desktop</a:t>
            </a:r>
            <a:r>
              <a:rPr b="0" lang="en-US" sz="2800" spc="-1" strike="noStrike">
                <a:solidFill>
                  <a:srgbClr val="000000"/>
                </a:solidFill>
                <a:latin typeface="Arial"/>
              </a:rPr>
              <a:t> by Defau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vation Prompts</a:t>
            </a:r>
            <a:r>
              <a:rPr b="0" lang="en-US" sz="2800" spc="-1" strike="noStrike">
                <a:solidFill>
                  <a:srgbClr val="000000"/>
                </a:solidFill>
                <a:latin typeface="Arial"/>
              </a:rPr>
              <a:t> for Background Applications are Minimized to the Taskb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s are blocked in the User's Logon Pa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Administrator Account is Disabled by Default on New Install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fault Access Control List (ACL) Setting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User</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startes as Standard User by defa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User can no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iles in </a:t>
            </a:r>
            <a:r>
              <a:rPr b="1" lang="en-US" sz="2400" spc="-1" strike="noStrike">
                <a:solidFill>
                  <a:srgbClr val="000000"/>
                </a:solidFill>
                <a:latin typeface="Arial"/>
              </a:rPr>
              <a:t>Program Files</a:t>
            </a:r>
            <a:r>
              <a:rPr b="0" lang="en-US" sz="2400" spc="-1" strike="noStrike">
                <a:solidFill>
                  <a:srgbClr val="000000"/>
                </a:solidFill>
                <a:latin typeface="Arial"/>
              </a:rPr>
              <a:t> f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iles in </a:t>
            </a:r>
            <a:r>
              <a:rPr b="1" lang="en-US" sz="2400" spc="-1" strike="noStrike">
                <a:solidFill>
                  <a:srgbClr val="000000"/>
                </a:solidFill>
                <a:latin typeface="Arial"/>
              </a:rPr>
              <a:t>Windows </a:t>
            </a:r>
            <a:r>
              <a:rPr b="0" lang="en-US" sz="2400" spc="-1" strike="noStrike">
                <a:solidFill>
                  <a:srgbClr val="000000"/>
                </a:solidFill>
                <a:latin typeface="Arial"/>
              </a:rPr>
              <a:t>or </a:t>
            </a:r>
            <a:r>
              <a:rPr b="1" lang="en-US" sz="2400" spc="-1" strike="noStrike">
                <a:solidFill>
                  <a:srgbClr val="000000"/>
                </a:solidFill>
                <a:latin typeface="Arial"/>
              </a:rPr>
              <a:t>System32</a:t>
            </a:r>
            <a:r>
              <a:rPr b="0" lang="en-US" sz="2400" spc="-1" strike="noStrike">
                <a:solidFill>
                  <a:srgbClr val="000000"/>
                </a:solidFill>
                <a:latin typeface="Arial"/>
              </a:rPr>
              <a:t> f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gistry under </a:t>
            </a:r>
            <a:r>
              <a:rPr b="1" lang="en-US" sz="2400" spc="-1" strike="noStrike">
                <a:solidFill>
                  <a:srgbClr val="000000"/>
                </a:solidFill>
                <a:latin typeface="Arial"/>
              </a:rPr>
              <a:t>HKLM\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local machines </a:t>
            </a:r>
            <a:r>
              <a:rPr b="1" lang="en-US" sz="2400" spc="-1" strike="noStrike">
                <a:solidFill>
                  <a:srgbClr val="000000"/>
                </a:solidFill>
                <a:latin typeface="Arial"/>
              </a:rPr>
              <a:t>date and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or uninstall </a:t>
            </a:r>
            <a:r>
              <a:rPr b="1" lang="en-US" sz="2400" spc="-1" strike="noStrike">
                <a:solidFill>
                  <a:srgbClr val="000000"/>
                </a:solidFill>
                <a:latin typeface="Arial"/>
              </a:rPr>
              <a:t>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ier Recommendations are now enfor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AC Architecture</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8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ken Split during log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er Det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Interface Privilege Is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Deskt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2" descr="UAC_ISVArchitecture"/>
          <p:cNvPicPr/>
          <p:nvPr/>
        </p:nvPicPr>
        <p:blipFill>
          <a:blip r:embed="rId1"/>
          <a:srcRect l="0" t="0" r="0" b="17099"/>
          <a:stretch/>
        </p:blipFill>
        <p:spPr>
          <a:xfrm>
            <a:off x="539640" y="1557360"/>
            <a:ext cx="3200400" cy="4896000"/>
          </a:xfrm>
          <a:prstGeom prst="rect">
            <a:avLst/>
          </a:prstGeom>
          <a:ln w="0">
            <a:noFill/>
          </a:ln>
        </p:spPr>
      </p:pic>
      <p:pic>
        <p:nvPicPr>
          <p:cNvPr id="128" name="Picture 2" descr="UAC_ISVArchitecture"/>
          <p:cNvPicPr/>
          <p:nvPr/>
        </p:nvPicPr>
        <p:blipFill>
          <a:blip r:embed="rId2"/>
          <a:srcRect l="0" t="82937" r="43757" b="0"/>
          <a:stretch/>
        </p:blipFill>
        <p:spPr>
          <a:xfrm>
            <a:off x="3851280" y="5411880"/>
            <a:ext cx="180036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Interface Privilege Isol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uideline – “lower” can not access “hi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er privilege process canno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a window handle valid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Message or PostMessa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read hooks to atta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Journal hooks to moni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dynamic link-library (DLL) injec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sources are still shared between proce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window, which actually owns the screen surf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heap read-only shared mem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tom t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pbo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ization / Redirection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ization is for compatibility – not a fe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for executables with UAC info in manifest!</a:t>
            </a:r>
            <a:endParaRPr b="0" lang="en-US" sz="3200" spc="-1" strike="noStrike">
              <a:solidFill>
                <a:srgbClr val="000000"/>
              </a:solidFill>
              <a:latin typeface="Arial"/>
            </a:endParaRPr>
          </a:p>
        </p:txBody>
      </p:sp>
      <p:pic>
        <p:nvPicPr>
          <p:cNvPr id="133" name="Picture 5" descr="UAC_VirtualizationViews"/>
          <p:cNvPicPr/>
          <p:nvPr/>
        </p:nvPicPr>
        <p:blipFill>
          <a:blip r:embed="rId1"/>
          <a:stretch/>
        </p:blipFill>
        <p:spPr>
          <a:xfrm>
            <a:off x="4419720" y="4191120"/>
            <a:ext cx="3133440" cy="2062080"/>
          </a:xfrm>
          <a:prstGeom prst="rect">
            <a:avLst/>
          </a:prstGeom>
          <a:ln w="0">
            <a:noFill/>
          </a:ln>
        </p:spPr>
      </p:pic>
      <p:pic>
        <p:nvPicPr>
          <p:cNvPr id="134" name="Picture 6" descr="UAC_VirtualizationConceptual"/>
          <p:cNvPicPr/>
          <p:nvPr/>
        </p:nvPicPr>
        <p:blipFill>
          <a:blip r:embed="rId2"/>
          <a:stretch/>
        </p:blipFill>
        <p:spPr>
          <a:xfrm>
            <a:off x="914400" y="3962520"/>
            <a:ext cx="2962440" cy="249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ield</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ed to controls which, if clicked, will require elevation as the next st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one state (I.e. no hover, disable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member elevated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a:t>
            </a:r>
            <a:r>
              <a:rPr b="0" lang="en-US" sz="2800" spc="-1" strike="noStrike">
                <a:solidFill>
                  <a:srgbClr val="000000"/>
                </a:solidFill>
                <a:latin typeface="Arial"/>
              </a:rPr>
              <a:t> an unlock operation</a:t>
            </a:r>
            <a:endParaRPr b="0" lang="en-US" sz="2800" spc="-1" strike="noStrike">
              <a:solidFill>
                <a:srgbClr val="000000"/>
              </a:solidFill>
              <a:latin typeface="Arial"/>
            </a:endParaRPr>
          </a:p>
        </p:txBody>
      </p:sp>
      <p:pic>
        <p:nvPicPr>
          <p:cNvPr id="137" name="Picture 4" descr="Security shield windows"/>
          <p:cNvPicPr/>
          <p:nvPr/>
        </p:nvPicPr>
        <p:blipFill>
          <a:blip r:embed="rId1"/>
          <a:stretch/>
        </p:blipFill>
        <p:spPr>
          <a:xfrm>
            <a:off x="7848720" y="228600"/>
            <a:ext cx="969840" cy="1219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eld UI Examples</a:t>
            </a:r>
            <a:endParaRPr b="0" lang="en-US" sz="4400" spc="-1" strike="noStrike">
              <a:solidFill>
                <a:srgbClr val="000000"/>
              </a:solidFill>
              <a:latin typeface="Arial"/>
            </a:endParaRPr>
          </a:p>
        </p:txBody>
      </p:sp>
      <p:pic>
        <p:nvPicPr>
          <p:cNvPr id="139" name="Picture 3" descr=""/>
          <p:cNvPicPr/>
          <p:nvPr/>
        </p:nvPicPr>
        <p:blipFill>
          <a:blip r:embed="rId1"/>
          <a:stretch/>
        </p:blipFill>
        <p:spPr>
          <a:xfrm>
            <a:off x="609480" y="1676520"/>
            <a:ext cx="7027920" cy="4029120"/>
          </a:xfrm>
          <a:prstGeom prst="rect">
            <a:avLst/>
          </a:prstGeom>
          <a:ln w="0">
            <a:noFill/>
          </a:ln>
        </p:spPr>
      </p:pic>
      <p:sp>
        <p:nvSpPr>
          <p:cNvPr id="140" name="Freeform 4"/>
          <p:cNvSpPr/>
          <p:nvPr/>
        </p:nvSpPr>
        <p:spPr>
          <a:xfrm>
            <a:off x="447840" y="2295360"/>
            <a:ext cx="1168200" cy="7747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5"/>
          <p:cNvSpPr/>
          <p:nvPr/>
        </p:nvSpPr>
        <p:spPr>
          <a:xfrm>
            <a:off x="5172120" y="3895560"/>
            <a:ext cx="1168200" cy="7747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6"/>
          <p:cNvSpPr/>
          <p:nvPr/>
        </p:nvSpPr>
        <p:spPr>
          <a:xfrm>
            <a:off x="676440" y="4734000"/>
            <a:ext cx="761760" cy="53316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7" descr=""/>
          <p:cNvPicPr/>
          <p:nvPr/>
        </p:nvPicPr>
        <p:blipFill>
          <a:blip r:embed="rId2"/>
          <a:stretch/>
        </p:blipFill>
        <p:spPr>
          <a:xfrm>
            <a:off x="6095880" y="4809960"/>
            <a:ext cx="2886120" cy="1895760"/>
          </a:xfrm>
          <a:prstGeom prst="rect">
            <a:avLst/>
          </a:prstGeom>
          <a:ln w="15840">
            <a:solidFill>
              <a:srgbClr val="000000"/>
            </a:solidFill>
            <a:miter/>
          </a:ln>
        </p:spPr>
      </p:pic>
      <p:sp>
        <p:nvSpPr>
          <p:cNvPr id="144" name="Freeform 8"/>
          <p:cNvSpPr/>
          <p:nvPr/>
        </p:nvSpPr>
        <p:spPr>
          <a:xfrm>
            <a:off x="5867280" y="5343480"/>
            <a:ext cx="762120" cy="533520"/>
          </a:xfrm>
          <a:prstGeom prst="pie">
            <a:avLst/>
          </a:pr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14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500"/>
                                  </p:stCondLst>
                                  <p:childTnLst>
                                    <p:set>
                                      <p:cBhvr>
                                        <p:cTn id="9" dur="1" fill="hold">
                                          <p:stCondLst>
                                            <p:cond delay="0"/>
                                          </p:stCondLst>
                                        </p:cTn>
                                        <p:tgtEl>
                                          <p:spTgt spid="14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500"/>
                                  </p:stCondLst>
                                  <p:childTnLst>
                                    <p:set>
                                      <p:cBhvr>
                                        <p:cTn id="12" dur="1" fill="hold">
                                          <p:stCondLst>
                                            <p:cond delay="0"/>
                                          </p:stCondLst>
                                        </p:cTn>
                                        <p:tgtEl>
                                          <p:spTgt spid="141"/>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500"/>
                                  </p:stCondLst>
                                  <p:childTnLst>
                                    <p:set>
                                      <p:cBhvr>
                                        <p:cTn id="15"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scellaneous changes in Windows Vista</a:t>
            </a:r>
            <a:endParaRPr b="0" lang="en-US" sz="3200" spc="-1" strike="noStrike">
              <a:solidFill>
                <a:srgbClr val="000000"/>
              </a:solidFill>
              <a:latin typeface="Arial"/>
            </a:endParaRPr>
          </a:p>
        </p:txBody>
      </p:sp>
      <p:sp>
        <p:nvSpPr>
          <p:cNvPr id="146"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Resource Protec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cts the system: files, folders, registry k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the OS can update protected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lacing System bina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to system registry key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ver replace Windows System files and registry k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ver repackage MS redistributab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updat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updates need Admin privileg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User does not have privilege</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s use main EXE as updater</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igation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rs should be a separate manifested proces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SI patching</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lickOnce technology</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f Windows Vis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Account Control (U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ellaneous chan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et ready for Vi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bit Windows Vista</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support for 32-bit drivers</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gned kernel mode drivers required</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upgrade to 64-bit Windows Vista</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support for 16-bit</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er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 redirection for X64 native apps</a:t>
            </a:r>
            <a:endParaRPr b="0" lang="en-US" sz="2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Isolatio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run in their own private session</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Users no longer share the session with services</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sue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s cannot directly interact with user desktop or application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s with user interaction may hang as UI will not be visible</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session, global namespace objects</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Isolation (Cont’d)</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date apps</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should never display UI</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s should not assume to be in Session 0</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e app support fast user switching?</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s that share objects with services should use global objec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global namespace objects from session 0</a:t>
            </a:r>
            <a:endParaRPr b="0" lang="en-US" sz="2200" spc="-1" strike="noStrike">
              <a:solidFill>
                <a:srgbClr val="000000"/>
              </a:solidFill>
              <a:latin typeface="Arial"/>
            </a:endParaRPr>
          </a:p>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S mitigations</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ication sent to current user when there is UI in session 0</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 – Protected Mode</a:t>
            </a:r>
            <a:endParaRPr b="0" lang="en-US" sz="4400" spc="-1" strike="noStrike">
              <a:solidFill>
                <a:srgbClr val="000000"/>
              </a:solidFill>
              <a:latin typeface="Arial"/>
            </a:endParaRPr>
          </a:p>
        </p:txBody>
      </p:sp>
      <p:sp>
        <p:nvSpPr>
          <p:cNvPr id="158" name="PlaceHolder 2"/>
          <p:cNvSpPr>
            <a:spLocks noGrp="1"/>
          </p:cNvSpPr>
          <p:nvPr>
            <p:ph/>
          </p:nvPr>
        </p:nvSpPr>
        <p:spPr>
          <a:xfrm>
            <a:off x="0" y="1600200"/>
            <a:ext cx="8229600" cy="4525920"/>
          </a:xfrm>
          <a:prstGeom prst="rect">
            <a:avLst/>
          </a:prstGeom>
          <a:noFill/>
          <a:ln w="0">
            <a:noFill/>
          </a:ln>
        </p:spPr>
        <p:txBody>
          <a:bodyPr anchor="t">
            <a:normAutofit fontScale="95000"/>
          </a:bodyPr>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net explorer runs with super low permissions</a:t>
            </a:r>
            <a:endParaRPr b="0" lang="en-US" sz="29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 cannot modify user files, registry keys!</a:t>
            </a:r>
            <a:endParaRPr b="0" lang="en-US" sz="26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registry writes are redirected, visible from IE only</a:t>
            </a:r>
            <a:endParaRPr b="0" lang="en-US" sz="2600" spc="-1" strike="noStrike">
              <a:solidFill>
                <a:srgbClr val="000000"/>
              </a:solidFill>
              <a:latin typeface="Arial"/>
            </a:endParaRPr>
          </a:p>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ndows Messaging blocked</a:t>
            </a:r>
            <a:endParaRPr b="0" lang="en-US" sz="2900" spc="-1" strike="noStrike">
              <a:solidFill>
                <a:srgbClr val="000000"/>
              </a:solidFill>
              <a:latin typeface="Arial"/>
            </a:endParaRPr>
          </a:p>
          <a:p>
            <a:pPr lvl="1" marL="705600" indent="-2714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sues</a:t>
            </a:r>
            <a:endParaRPr b="0" lang="en-US" sz="29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s that share data with external processes fail</a:t>
            </a:r>
            <a:endParaRPr b="0" lang="en-US" sz="2600" spc="-1" strike="noStrike">
              <a:solidFill>
                <a:srgbClr val="000000"/>
              </a:solidFill>
              <a:latin typeface="Arial"/>
            </a:endParaRPr>
          </a:p>
          <a:p>
            <a:pPr lvl="2" marL="1085760" indent="-217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mpts requesting user permission</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 – Protected Mode (Contd.)</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ifest OCX installer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COM to communicate with external processe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the site to the trusted sites list</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out of process and as LOW M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Networking</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Filtering Platform is a set of public AP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stack completely re-wr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V4 and V6 have single sta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ystem calls and hooks remov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scanning, firewall, anti-virus apps fail</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apps to use new networking APIs and filtering platfor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s engaged with networking, firewall and anti-virus vendors to adopt new platform and support Windows Vista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sion Checking</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 checks for specific OS version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endency verification</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marketing restrictions</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ymptoms vary by app</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ently fails to install or launch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 “unsupported OS” message</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itigation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 should choose the minimal supported OS</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S GINA</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crosoft Graphical Identification and Authentication is re-architected</a:t>
            </a:r>
            <a:endParaRPr b="0" lang="en-US" sz="25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Credential Provider API</a:t>
            </a:r>
            <a:endParaRPr b="0" lang="en-US" sz="2200" spc="-1" strike="noStrike">
              <a:solidFill>
                <a:srgbClr val="000000"/>
              </a:solidFill>
              <a:latin typeface="Arial"/>
            </a:endParaRPr>
          </a:p>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sues</a:t>
            </a:r>
            <a:endParaRPr b="0" lang="en-US" sz="25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metric devices</a:t>
            </a:r>
            <a:endParaRPr b="0" lang="en-US" sz="22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 VPN solution for XP</a:t>
            </a:r>
            <a:endParaRPr b="0" lang="en-US" sz="22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rt Card readers</a:t>
            </a:r>
            <a:endParaRPr b="0" lang="en-US" sz="2200" spc="-1" strike="noStrike">
              <a:solidFill>
                <a:srgbClr val="000000"/>
              </a:solidFill>
              <a:latin typeface="Arial"/>
            </a:endParaRPr>
          </a:p>
          <a:p>
            <a:pPr lvl="1" marL="735480" indent="-282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tigation</a:t>
            </a:r>
            <a:endParaRPr b="0" lang="en-US" sz="25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application to support new Winlogon architecture</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t in smart card authentication</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GDI and DPI</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isplay driver model and desktop window mana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reas to tes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mbnail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3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and drop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Pop 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 rot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onitor suppo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I them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ll 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folders structure changes – Apps using hard coded paths may f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user switch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text search API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S 7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S writer changes for backup ap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erver core edition without most UI</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rebuchet MS"/>
              </a:rPr>
              <a:t>Windows Vista</a:t>
            </a:r>
            <a:endParaRPr b="0" lang="en-US" sz="3600" spc="-1" strike="noStrike">
              <a:solidFill>
                <a:srgbClr val="000000"/>
              </a:solidFill>
              <a:latin typeface="Arial"/>
            </a:endParaRPr>
          </a:p>
        </p:txBody>
      </p:sp>
      <p:sp>
        <p:nvSpPr>
          <p:cNvPr id="106"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oved component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eatures will not be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 Page Server Ext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of presence (POP3)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for Macintos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mode printer dri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Help</a:t>
            </a:r>
            <a:r>
              <a:rPr b="0" lang="en-US" sz="2800" spc="-1" strike="noStrike">
                <a:solidFill>
                  <a:srgbClr val="000000"/>
                </a:solidFill>
                <a:latin typeface="Arial"/>
              </a:rPr>
              <a:t> as OOB only (HTML Help and CHM files are suppo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verlays removed</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atibility Tab</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175" name="Rectangle 816130" descr=""/>
          <p:cNvPicPr/>
          <p:nvPr/>
        </p:nvPicPr>
        <p:blipFill>
          <a:blip r:embed="rId1"/>
          <a:stretch/>
        </p:blipFill>
        <p:spPr>
          <a:xfrm>
            <a:off x="2624040" y="1366920"/>
            <a:ext cx="3495600" cy="4790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ance</a:t>
            </a:r>
            <a:endParaRPr b="0" lang="en-US" sz="4400" spc="-1" strike="noStrike">
              <a:solidFill>
                <a:srgbClr val="000000"/>
              </a:solidFill>
              <a:latin typeface="Arial"/>
            </a:endParaRPr>
          </a:p>
        </p:txBody>
      </p:sp>
      <p:sp>
        <p:nvSpPr>
          <p:cNvPr id="177" name="PlaceHolder 2"/>
          <p:cNvSpPr>
            <a:spLocks noGrp="1"/>
          </p:cNvSpPr>
          <p:nvPr>
            <p:ph/>
          </p:nvPr>
        </p:nvSpPr>
        <p:spPr>
          <a:xfrm>
            <a:off x="546120" y="1447920"/>
            <a:ext cx="8229600" cy="4952880"/>
          </a:xfrm>
          <a:prstGeom prst="rect">
            <a:avLst/>
          </a:prstGeom>
          <a:noFill/>
          <a:ln w="0">
            <a:noFill/>
          </a:ln>
        </p:spPr>
        <p:txBody>
          <a:bodyPr anchor="t">
            <a:normAutofit/>
          </a:bodyPr>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Persist user data in User folders, files, registry keys</a:t>
            </a:r>
            <a:endParaRPr b="0" lang="en-US" sz="29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Design the app to run as standard user</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Write to C:\ProgramData or %UserProfile%</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Write Registry values to HKCU</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Use MSI for application installation</a:t>
            </a:r>
            <a:endParaRPr b="0" lang="en-US" sz="26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Don’t open files and registry keys for write access unless and until required</a:t>
            </a:r>
            <a:endParaRPr b="0" lang="en-US" sz="2900" spc="-1" strike="noStrike">
              <a:solidFill>
                <a:srgbClr val="000000"/>
              </a:solidFill>
              <a:latin typeface="Arial"/>
            </a:endParaRPr>
          </a:p>
          <a:p>
            <a:pPr lvl="1" marL="7430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Vista Application Development Requirements for User Account Control Compatibility</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Standard User Analyzer</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Vista Logo Program</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microsoft.mrmpslc.com/InnovateOnWindowsVist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t Ready</a:t>
            </a:r>
            <a:endParaRPr b="0" lang="en-US" sz="3600" spc="-1" strike="noStrike">
              <a:solidFill>
                <a:srgbClr val="000000"/>
              </a:solidFill>
              <a:latin typeface="Arial"/>
            </a:endParaRPr>
          </a:p>
        </p:txBody>
      </p:sp>
      <p:sp>
        <p:nvSpPr>
          <p:cNvPr id="181"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phi – What you have to do…</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application – identify problems</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your application as Standard User, Admin or Mixed.</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pplication Manifest</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functionality</a:t>
            </a:r>
            <a:endParaRPr b="0" lang="en-US" sz="20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pps should write data to correct locations</a:t>
            </a:r>
            <a:endParaRPr b="0" lang="en-US" sz="18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ut admin stuff into a separate executable</a:t>
            </a: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user interface</a:t>
            </a:r>
            <a:endParaRPr b="0" lang="en-US" sz="2000" spc="-1" strike="noStrike">
              <a:solidFill>
                <a:srgbClr val="000000"/>
              </a:solidFill>
              <a:latin typeface="Arial"/>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ield to buttons</a:t>
            </a: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installer</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gain</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sign application (Authenticode)</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e whether to pursue the Windows Vista Logo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83">
                                            <p:txEl>
                                              <p:pRg st="3" end="3"/>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83">
                                            <p:txEl>
                                              <p:pRg st="4" end="4"/>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3">
                                            <p:txEl>
                                              <p:pRg st="6" end="6"/>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83">
                                            <p:txEl>
                                              <p:pRg st="8" end="8"/>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83">
                                            <p:txEl>
                                              <p:pRg st="9" end="9"/>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83">
                                            <p:txEl>
                                              <p:pRg st="10" end="1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with </a:t>
            </a:r>
            <a:br>
              <a:rPr sz="4400"/>
            </a:br>
            <a:r>
              <a:rPr b="0" lang="en-US" sz="4400" spc="-1" strike="noStrike">
                <a:solidFill>
                  <a:srgbClr val="000000"/>
                </a:solidFill>
                <a:latin typeface="Arial"/>
              </a:rPr>
              <a:t>Standard User Analyzer Too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A helps you find what you do that can break application</a:t>
            </a:r>
            <a:endParaRPr b="0" lang="en-US" sz="3200" spc="-1" strike="noStrike">
              <a:solidFill>
                <a:srgbClr val="000000"/>
              </a:solidFill>
              <a:latin typeface="Arial"/>
            </a:endParaRPr>
          </a:p>
        </p:txBody>
      </p:sp>
      <p:pic>
        <p:nvPicPr>
          <p:cNvPr id="186" name="Picture 4" descr="SUA"/>
          <p:cNvPicPr/>
          <p:nvPr/>
        </p:nvPicPr>
        <p:blipFill>
          <a:blip r:embed="rId1"/>
          <a:stretch/>
        </p:blipFill>
        <p:spPr>
          <a:xfrm>
            <a:off x="3200400" y="2643120"/>
            <a:ext cx="5791320" cy="4041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ed Execution Level</a:t>
            </a:r>
            <a:endParaRPr b="0" lang="en-US"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ll references to XPMan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own manifest for other Levels</a:t>
            </a:r>
            <a:endParaRPr b="0" lang="en-US" sz="3200" spc="-1" strike="noStrike">
              <a:solidFill>
                <a:srgbClr val="000000"/>
              </a:solidFill>
              <a:latin typeface="Arial"/>
            </a:endParaRPr>
          </a:p>
        </p:txBody>
      </p:sp>
      <p:pic>
        <p:nvPicPr>
          <p:cNvPr id="189" name="Picture 2" descr=""/>
          <p:cNvPicPr/>
          <p:nvPr/>
        </p:nvPicPr>
        <p:blipFill>
          <a:blip r:embed="rId1"/>
          <a:stretch/>
        </p:blipFill>
        <p:spPr>
          <a:xfrm>
            <a:off x="509760" y="2813040"/>
            <a:ext cx="7643520" cy="33591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file is compiled to RES-file</a:t>
            </a:r>
            <a:endParaRPr b="0" lang="en-US" sz="44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2" descr=""/>
          <p:cNvPicPr/>
          <p:nvPr/>
        </p:nvPicPr>
        <p:blipFill>
          <a:blip r:embed="rId1"/>
          <a:stretch/>
        </p:blipFill>
        <p:spPr>
          <a:xfrm>
            <a:off x="476280" y="2238480"/>
            <a:ext cx="6000840" cy="3857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fest</a:t>
            </a:r>
            <a:endParaRPr b="0" lang="en-US"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2" descr=""/>
          <p:cNvPicPr/>
          <p:nvPr/>
        </p:nvPicPr>
        <p:blipFill>
          <a:blip r:embed="rId1"/>
          <a:stretch/>
        </p:blipFill>
        <p:spPr>
          <a:xfrm>
            <a:off x="533520" y="1600200"/>
            <a:ext cx="7143480" cy="4429080"/>
          </a:xfrm>
          <a:prstGeom prst="rect">
            <a:avLst/>
          </a:prstGeom>
          <a:ln w="9360">
            <a:solidFill>
              <a:srgbClr val="000000"/>
            </a:solidFill>
            <a:miter/>
          </a:ln>
          <a:effectLst>
            <a:outerShdw dist="107932" dir="2700000" blurRad="0" rotWithShape="0">
              <a:srgbClr val="808080">
                <a:alpha val="50000"/>
              </a:srgbClr>
            </a:outerShdw>
          </a:effectLst>
        </p:spPr>
      </p:pic>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ion and Compatibility</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Vista enhances user experie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y applications jus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ments in Windows Vista sometimes break compati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requierdExecutionLevel /&g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asInvok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process runing with same token as the process creating i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highestAvail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dministrators for consent to elevate but start as standard user if user has no administrative privile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requireAdministra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dministrators for consent to elev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user will get login dialog for over the shoulder sup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only start with administrative privile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XP Warning!</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formatting of Manifest can </a:t>
            </a:r>
            <a:r>
              <a:rPr b="1" lang="en-US" sz="3200" spc="-1" strike="noStrike">
                <a:solidFill>
                  <a:srgbClr val="000000"/>
                </a:solidFill>
                <a:latin typeface="Arial"/>
              </a:rPr>
              <a:t>blue screen</a:t>
            </a:r>
            <a:r>
              <a:rPr b="0" lang="en-US" sz="3200" spc="-1" strike="noStrike">
                <a:solidFill>
                  <a:srgbClr val="000000"/>
                </a:solidFill>
                <a:latin typeface="Arial"/>
              </a:rPr>
              <a:t> Windows X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KB9213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esign</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open files or registry keys with Write fl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data, log files, etc. in the right location using SHGetFolderPa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PERSONAL { My Docume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APPDATA { Application Data, new for NT4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LOCAL_APPDATA { non roaming, user\Local Settings\Application Dat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COMMON_APPDATA { All Users\Application Dat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MYPICTURES { My Pictures, new for Win2K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DL_COMMON_DOCUMENTS { All Users\Docume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GetFolderPath</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205" name="Picture 4" descr=""/>
          <p:cNvPicPr/>
          <p:nvPr/>
        </p:nvPicPr>
        <p:blipFill>
          <a:blip r:embed="rId1"/>
          <a:srcRect l="23780" t="20751" r="21362" b="38139"/>
          <a:stretch/>
        </p:blipFill>
        <p:spPr>
          <a:xfrm>
            <a:off x="533520" y="2178000"/>
            <a:ext cx="7310160" cy="39942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AsAdmin</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nch application running as administ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pplication.Handle to delay elevation if app is minim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ndle always gives direct foreground ele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AsAdmin</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Arial"/>
            </a:endParaRPr>
          </a:p>
        </p:txBody>
      </p:sp>
      <p:pic>
        <p:nvPicPr>
          <p:cNvPr id="210" name="Picture 2" descr=""/>
          <p:cNvPicPr/>
          <p:nvPr/>
        </p:nvPicPr>
        <p:blipFill>
          <a:blip r:embed="rId1"/>
          <a:stretch/>
        </p:blipFill>
        <p:spPr>
          <a:xfrm>
            <a:off x="468360" y="2852640"/>
            <a:ext cx="7500960" cy="32148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M class for Admin task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2362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Server must be an EX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 must have requireAdministrator to install COM objects cor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of COM Class mus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 LocalizedString (and resource string in execut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key Elevation and value Enabled = 1</a:t>
            </a:r>
            <a:endParaRPr b="0" lang="en-US" sz="2000" spc="-1" strike="noStrike">
              <a:solidFill>
                <a:srgbClr val="000000"/>
              </a:solidFill>
              <a:latin typeface="Arial"/>
            </a:endParaRPr>
          </a:p>
        </p:txBody>
      </p:sp>
      <p:pic>
        <p:nvPicPr>
          <p:cNvPr id="213" name="Picture 3" descr=""/>
          <p:cNvPicPr/>
          <p:nvPr/>
        </p:nvPicPr>
        <p:blipFill>
          <a:blip r:embed="rId1"/>
          <a:stretch/>
        </p:blipFill>
        <p:spPr>
          <a:xfrm>
            <a:off x="571680" y="3929040"/>
            <a:ext cx="7686360" cy="1714680"/>
          </a:xfrm>
          <a:prstGeom prst="rect">
            <a:avLst/>
          </a:prstGeom>
          <a:ln w="0">
            <a:noFill/>
          </a:ln>
        </p:spPr>
      </p:pic>
      <p:pic>
        <p:nvPicPr>
          <p:cNvPr id="214" name="Picture 4" descr=""/>
          <p:cNvPicPr/>
          <p:nvPr/>
        </p:nvPicPr>
        <p:blipFill>
          <a:blip r:embed="rId2"/>
          <a:stretch/>
        </p:blipFill>
        <p:spPr>
          <a:xfrm>
            <a:off x="285840" y="5072040"/>
            <a:ext cx="6105600" cy="1619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vated COM call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niker to create elevated CoClass from User Process</a:t>
            </a:r>
            <a:endParaRPr b="0" lang="en-US" sz="3200" spc="-1" strike="noStrike">
              <a:solidFill>
                <a:srgbClr val="000000"/>
              </a:solidFill>
              <a:latin typeface="Arial"/>
            </a:endParaRPr>
          </a:p>
        </p:txBody>
      </p:sp>
      <p:pic>
        <p:nvPicPr>
          <p:cNvPr id="217" name="Picture 2" descr=""/>
          <p:cNvPicPr/>
          <p:nvPr/>
        </p:nvPicPr>
        <p:blipFill>
          <a:blip r:embed="rId1"/>
          <a:stretch/>
        </p:blipFill>
        <p:spPr>
          <a:xfrm>
            <a:off x="1347840" y="2919240"/>
            <a:ext cx="7643880" cy="37864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ield - SetElevationRequiredState</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unction with Button as parameter to add Shield symbol</a:t>
            </a:r>
            <a:endParaRPr b="0" lang="en-US" sz="3200" spc="-1" strike="noStrike">
              <a:solidFill>
                <a:srgbClr val="000000"/>
              </a:solidFill>
              <a:latin typeface="Arial"/>
            </a:endParaRPr>
          </a:p>
        </p:txBody>
      </p:sp>
      <p:pic>
        <p:nvPicPr>
          <p:cNvPr id="220" name="Picture 2" descr=""/>
          <p:cNvPicPr/>
          <p:nvPr/>
        </p:nvPicPr>
        <p:blipFill>
          <a:blip r:embed="rId1"/>
          <a:stretch/>
        </p:blipFill>
        <p:spPr>
          <a:xfrm>
            <a:off x="611280" y="2957400"/>
            <a:ext cx="7643880" cy="2071800"/>
          </a:xfrm>
          <a:prstGeom prst="rect">
            <a:avLst/>
          </a:prstGeom>
          <a:ln w="9360">
            <a:solidFill>
              <a:srgbClr val="000000"/>
            </a:solidFill>
            <a:miter/>
          </a:ln>
          <a:effectLst>
            <a:outerShdw dist="107932" dir="2700000" blurRad="0" rotWithShape="0">
              <a:srgbClr val="808080">
                <a:alpha val="50000"/>
              </a:srgbClr>
            </a:outerShdw>
          </a:effectLst>
        </p:spPr>
      </p:pic>
      <p:pic>
        <p:nvPicPr>
          <p:cNvPr id="221" name="Picture 5" descr="Security shield windows"/>
          <p:cNvPicPr/>
          <p:nvPr/>
        </p:nvPicPr>
        <p:blipFill>
          <a:blip r:embed="rId2"/>
          <a:stretch/>
        </p:blipFill>
        <p:spPr>
          <a:xfrm>
            <a:off x="7391520" y="4267080"/>
            <a:ext cx="1374480" cy="1727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 with Authenticode</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2286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less serious looking consent dialo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t winqual.microsoft.c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certificate (Verisign,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executables (MakeCert, Signtool.ex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pplications at winqual to get access to crash lo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ConsentOS"/>
          <p:cNvPicPr/>
          <p:nvPr/>
        </p:nvPicPr>
        <p:blipFill>
          <a:blip r:embed="rId1"/>
          <a:srcRect l="27536" t="33116" r="39552" b="40963"/>
          <a:stretch/>
        </p:blipFill>
        <p:spPr>
          <a:xfrm>
            <a:off x="4500720" y="3716280"/>
            <a:ext cx="3512880" cy="2075040"/>
          </a:xfrm>
          <a:prstGeom prst="rect">
            <a:avLst/>
          </a:prstGeom>
          <a:ln w="9360">
            <a:solidFill>
              <a:srgbClr val="000000"/>
            </a:solidFill>
            <a:miter/>
          </a:ln>
          <a:effectLst>
            <a:outerShdw dist="107932" dir="2700000" blurRad="0" rotWithShape="0">
              <a:srgbClr val="808080">
                <a:alpha val="50000"/>
              </a:srgbClr>
            </a:outerShdw>
          </a:effectLst>
        </p:spPr>
      </p:pic>
      <p:pic>
        <p:nvPicPr>
          <p:cNvPr id="225" name="Picture 5" descr="Consent"/>
          <p:cNvPicPr/>
          <p:nvPr/>
        </p:nvPicPr>
        <p:blipFill>
          <a:blip r:embed="rId2"/>
          <a:stretch/>
        </p:blipFill>
        <p:spPr>
          <a:xfrm>
            <a:off x="250920" y="3716280"/>
            <a:ext cx="3655800" cy="2957400"/>
          </a:xfrm>
          <a:prstGeom prst="rect">
            <a:avLst/>
          </a:prstGeom>
          <a:ln w="9360">
            <a:solidFill>
              <a:srgbClr val="000000"/>
            </a:solidFill>
            <a:miter/>
          </a:ln>
          <a:effectLst>
            <a:outerShdw dist="107932" dir="2700000" blurRad="0" rotWithShape="0">
              <a:srgbClr val="808080">
                <a:alpha val="50000"/>
              </a:srgbClr>
            </a:outerShdw>
          </a:effectLst>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2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4"/>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Compatibility Failur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umption of running as admin (Accessing secure, sensitiv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old system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d to an operating system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internal system calls and data 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tent bu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I Rendering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rebuchet MS"/>
              </a:rPr>
              <a:t>Questions</a:t>
            </a:r>
            <a:endParaRPr b="0" lang="en-US" sz="3600" spc="-1" strike="noStrike">
              <a:solidFill>
                <a:srgbClr val="000000"/>
              </a:solidFill>
              <a:latin typeface="Arial"/>
            </a:endParaRPr>
          </a:p>
        </p:txBody>
      </p:sp>
      <p:sp>
        <p:nvSpPr>
          <p:cNvPr id="227"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4495320"/>
            <a:ext cx="4572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rebuchet MS"/>
              </a:rPr>
              <a:t>Thank you!</a:t>
            </a:r>
            <a:endParaRPr b="0" lang="en-US" sz="3600" spc="-1" strike="noStrike">
              <a:solidFill>
                <a:srgbClr val="000000"/>
              </a:solidFill>
              <a:latin typeface="Arial"/>
            </a:endParaRPr>
          </a:p>
        </p:txBody>
      </p:sp>
      <p:sp>
        <p:nvSpPr>
          <p:cNvPr id="229" name="PlaceHolder 2"/>
          <p:cNvSpPr>
            <a:spLocks noGrp="1"/>
          </p:cNvSpPr>
          <p:nvPr>
            <p:ph type="subTitle"/>
          </p:nvPr>
        </p:nvSpPr>
        <p:spPr>
          <a:xfrm>
            <a:off x="151920" y="5790960"/>
            <a:ext cx="899172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lications run without Admin privile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s potential for introduction of vulnerabil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l-ware, Trojans, Viruses, Root-ki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 installers may not be det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lications are admin ‘by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pplications check for admin credenti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ptoms (silent failure, prompts, modal mess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ify the application to work with UA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as standard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 activities through COM, another EX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ifest apps for UAC privilege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direction should be need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time mitig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application with elevated privile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ease ACLs on files/fold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Account Control (UAC)</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296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token split during log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
            </a:r>
            <a:r>
              <a:rPr b="1" lang="en-US" sz="2400" spc="-1" strike="noStrike">
                <a:solidFill>
                  <a:srgbClr val="000000"/>
                </a:solidFill>
                <a:latin typeface="Arial"/>
              </a:rPr>
              <a:t>user token </a:t>
            </a:r>
            <a:r>
              <a:rPr b="0" lang="en-US" sz="2400" spc="-1" strike="noStrike">
                <a:solidFill>
                  <a:srgbClr val="000000"/>
                </a:solidFill>
                <a:latin typeface="Arial"/>
              </a:rPr>
              <a:t>and one </a:t>
            </a:r>
            <a:r>
              <a:rPr b="1" lang="en-US" sz="2400" spc="-1" strike="noStrike">
                <a:solidFill>
                  <a:srgbClr val="000000"/>
                </a:solidFill>
                <a:latin typeface="Arial"/>
              </a:rPr>
              <a:t>admin tok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l run with </a:t>
            </a:r>
            <a:r>
              <a:rPr b="1" lang="en-US" sz="2800" spc="-1" strike="noStrike">
                <a:solidFill>
                  <a:srgbClr val="000000"/>
                </a:solidFill>
                <a:latin typeface="Arial"/>
              </a:rPr>
              <a:t>Standard User</a:t>
            </a:r>
            <a:r>
              <a:rPr b="0" lang="en-US" sz="2800" spc="-1" strike="noStrike">
                <a:solidFill>
                  <a:srgbClr val="000000"/>
                </a:solidFill>
                <a:latin typeface="Arial"/>
              </a:rPr>
              <a:t> token (also for adm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o explicitly consent every time you create a process with administrator token – this is called “elevation”</a:t>
            </a:r>
            <a:endParaRPr b="0" lang="en-US" sz="2800" spc="-1" strike="noStrike">
              <a:solidFill>
                <a:srgbClr val="000000"/>
              </a:solidFill>
              <a:latin typeface="Arial"/>
            </a:endParaRPr>
          </a:p>
        </p:txBody>
      </p:sp>
      <p:pic>
        <p:nvPicPr>
          <p:cNvPr id="117" name="Picture 5" descr="ConsentOS"/>
          <p:cNvPicPr/>
          <p:nvPr/>
        </p:nvPicPr>
        <p:blipFill>
          <a:blip r:embed="rId1"/>
          <a:srcRect l="27536" t="33131" r="39536" b="40952"/>
          <a:stretch/>
        </p:blipFill>
        <p:spPr>
          <a:xfrm>
            <a:off x="5133960" y="4433760"/>
            <a:ext cx="3857760" cy="22780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User – </a:t>
            </a:r>
            <a:br>
              <a:rPr sz="4400"/>
            </a:br>
            <a:r>
              <a:rPr b="0" lang="en-US" sz="4400" spc="-1" strike="noStrike">
                <a:solidFill>
                  <a:srgbClr val="000000"/>
                </a:solidFill>
                <a:latin typeface="Arial"/>
              </a:rPr>
              <a:t>Over the shoulder elevation</a:t>
            </a:r>
            <a:endParaRPr b="0" lang="en-US" sz="4400" spc="-1" strike="noStrike">
              <a:solidFill>
                <a:srgbClr val="000000"/>
              </a:solidFill>
              <a:latin typeface="Arial"/>
            </a:endParaRPr>
          </a:p>
        </p:txBody>
      </p:sp>
      <p:pic>
        <p:nvPicPr>
          <p:cNvPr id="119" name="Picture 5" descr="OverTheShoulder"/>
          <p:cNvPicPr/>
          <p:nvPr/>
        </p:nvPicPr>
        <p:blipFill>
          <a:blip r:embed="rId1"/>
          <a:stretch/>
        </p:blipFill>
        <p:spPr>
          <a:xfrm>
            <a:off x="1830240" y="1600200"/>
            <a:ext cx="5481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19:33:17Z</dcterms:created>
  <dc:creator>Fredrik Haglund</dc:creator>
  <dc:description/>
  <dc:language>en-US</dc:language>
  <cp:lastModifiedBy>fhaglund</cp:lastModifiedBy>
  <dcterms:modified xsi:type="dcterms:W3CDTF">2007-03-14T15:41:12Z</dcterms:modified>
  <cp:revision>35</cp:revision>
  <dc:subject/>
  <dc:title>CodeGear Product Update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