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81880" y="6477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igrating Your Applic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rateg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ventory 3rd Party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ith/Without Source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wnload/Purchase lates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Migrate (Goal: Identify Issues and Quantify Work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ean Targe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uild Packa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mpile, Fix, Compile, Fix…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st Ru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g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e-Shot or Backward compatible? Use IFDEF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ventory 3rd Party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ually the Largest Issue during Mig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y always components with Source! – Future compat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you have problems – Ask us for help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ean Targe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is usually best to copy project to new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ete all intermediate files and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CU DCP BPL (DCUIL DCPIL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sure no search paths points to old c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brary Pat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ject Path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ild Component Pack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Path to Run-Time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x Conditional Defines if no new 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uick fix: Define VER130 if components source is for Delphi 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ngs to Fi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own copies of library un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mmon problem is own copy of Consts, DBConsts, et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iler finds more err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ed functiona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ariants Unit introduced after Delphi 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ice Serv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w Unit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ffice Automation has chang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prec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TServerSocket, TClientSocke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maller Issu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nHelpViewer un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WinHelp.exe is removed from Windows Vist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hareMem -&gt; SimpleShareM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P Manif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base Strateg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DE is Deprec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grade BDE to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bGO (MDAC 2.8 = old ADO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BExpr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bExpr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bExpress works like ADO.NET with disconnected record se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DE to dbExpress requiers more work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Base has an embedded version in Road Map (like a DLL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DataStore – Managed Embedded Database (?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estions &amp; Answe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3:26:34Z</dcterms:created>
  <dc:creator>Julie Wider</dc:creator>
  <dc:description/>
  <dc:language>en-US</dc:language>
  <cp:lastModifiedBy>Fredrik Haglund</cp:lastModifiedBy>
  <dcterms:modified xsi:type="dcterms:W3CDTF">2007-05-01T06:50:42Z</dcterms:modified>
  <cp:revision>176</cp:revision>
  <dc:subject/>
  <dc:title>Website Examples</dc:title>
</cp:coreProperties>
</file>