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1811ACA1-FA0F-4D5F-9F9B-8A2A7289AD80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E446519-4612-4AE8-B3AE-A964EFE7D32B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333BA68-81F0-43B2-9EAB-92820C1D2167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fied Modeling Language™ (UML®) technology: extensive support for class diagrams, tagged values, stereotypes, associations (aggregates, compositions), multiplicity, visibility, and mixed transient/persistent elements and class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6D4272B-A64D-4DB1-A9E5-917E0F681AF0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27CEA87-C060-4930-913A-65793C56AD22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2960" y="4414680"/>
            <a:ext cx="50320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7200" y="428364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1504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524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6328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720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0524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6328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47560" y="1815840"/>
            <a:ext cx="7407360" cy="80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1504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7200" y="428364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1504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0524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328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720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50524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46328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7560" y="1815840"/>
            <a:ext cx="7407360" cy="80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1504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1295280"/>
            <a:ext cx="8991360" cy="5486400"/>
          </a:xfrm>
          <a:prstGeom prst="rect">
            <a:avLst/>
          </a:prstGeom>
          <a:noFill/>
          <a:ln w="9360">
            <a:solidFill>
              <a:srgbClr val="0f8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81880" y="64771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629400" y="6095880"/>
            <a:ext cx="2286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9360">
            <a:solidFill>
              <a:srgbClr val="0f8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29400" y="6095880"/>
            <a:ext cx="2286000" cy="571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6880" y="6210360"/>
            <a:ext cx="2000520" cy="449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abbd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  <a:p>
            <a:pPr lvl="1" marL="457200" indent="0" algn="ctr">
              <a:lnSpc>
                <a:spcPct val="9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7200" y="1815840"/>
            <a:ext cx="80629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hat is New in Delphi 2006?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abbd"/>
                </a:solidFill>
                <a:latin typeface="Arial Narrow"/>
              </a:rPr>
              <a:t>Fredrik Haglund</a:t>
            </a: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abbd"/>
                </a:solidFill>
                <a:latin typeface="Arial Narrow"/>
              </a:rPr>
              <a:t>Developer Evangelist</a:t>
            </a: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Together – Audit and Metric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5410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Audi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00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Source code conformity rul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00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Violations displayed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00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From Design Issues to Naming Convention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00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Descriptions &amp; How to Fix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tric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00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Evaluate Object Complexit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00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Quantify your cod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00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Highlight Redesign Need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00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Change Impact Analysi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456000" cy="2581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114800" y="2971800"/>
            <a:ext cx="38178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ditor enhancem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hanced Tool Palette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ncEd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cluttered left gut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Glyphs no longer crowd each other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Numbers only every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line (option controlled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lways displays line number on cursor lin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nge-ba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Lines modified since last sav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Lines modified since opene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llimou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s new Intellimouse support in VC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iddle click enables scroller target similar to I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lphi support for C++Builder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ngle option to generate all required support files when building a Delphi component package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New –jl DCC32 compiler switch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Generate all C++Builder files in ID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.HPP fil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.LIB – no individual .OBJs are genera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.BP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onent palette now filters compon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++ Only – package built with C++Builder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elphi Only – package built without above switch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elphi &amp; C++ - Delphi package built with above switch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VCL Designer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m Positioner (no more accidental move of form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uidelines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ovide dynamic alignment marks based on controls already on the form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Leverages new Padding and Margins properti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Horizontal &amp; Vertical alignment marks (boundary alignments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rgin alignment marks (spacing between controls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ext baseline (horiz. alignment of embedded text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xtendable by component developer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VCL - Guidelin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555480" y="1287360"/>
            <a:ext cx="6836040" cy="51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 TDesignerGuideType - Describes how to handle the a particular guide line type o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style.  For the gtAlignLeft, gtAlignTop, gtAlignRight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gtAlignBottom types, they must match another guideline of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he same type.  For the gtMarginLeft, gtMarginTop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gtMarginRight, gtMarginBottom types, they must match one of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he opposite type (ie. gtMarginTop matches gtMarginBottom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Use the gtBaseline type to indicate some important intern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feature of the control such as the text baseline on a butt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or edit control. }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DesignerGuideType = (gtAlignLeft, gtAlignTop, gtAlignRight, gtAlignBottom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gtMarginLeft, gtMarginTop, gtMarginRight, gtMarginBottom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gtPaddingLeft, gtPaddingTop, gtPaddingRight, gtPaddingBottom, gtBaseline)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ComponentGuidelines = interfac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['{237413D7-F6B8-4B8D-B581-3CDC320CE854}']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 Returns the number of guide lines described by this interface instance }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function GetCount: Integer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 Returns the index'ed designer guide type }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function GetDesignerGuideType(Index: Integer): TDesignerGuideType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 Returns the index'ed designer guide offset.  This is the offset from th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control origin.  It can be negative to describe guidelines that exist t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he top and left of a control. }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function GetDesignerGuideOffset(Index: Integer): Integer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roperty Count: Integer read GetCount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roperty DesignerGuideTypes[Index: Integer]: TDesignerGuideType read GetDesignerGuideType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roperty DesignerGuideOffsets[Index: Integer]: Integer read GetDesignerGuideOffset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end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BaseComponentGuidelines = class(TInterfacedObject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FDesigner: IDesigner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ubli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constructor Create(const ADesigner: IDesigner); virtual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rocedure Initialize(AComponent: TComponent; AContainer: TComponent); virtual; abstract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roperty Designer: IDesigner read FDesigner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end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TML Designe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!  Better HTML Source preservation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ag Editor Error Insigh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hows errors in inconsistent tag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ag Editor now optionally auto hi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ement highlighted if tag has err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lock Comple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 more typing ‘end;’ or ‘}’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Works with ‘try’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nderstands ‘else’ claus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tches indent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Live Templat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vide “boilerplate” constructs with “live” field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uto completion mod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utomatically invoked on &lt;space&gt; based on previous toke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inly for language statemen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grated with code-completion lis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rrounds” templates for wrapping existing code with comments, regions, “if” statements, etc.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ew templates view for managing templates based on langua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XML definition uses Live Templates to define new templat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r configurable aggressiveness – Tools|Options…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text-aware templates know where you are in cod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bugg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poi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ump Call Stack or Expression to Lo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tch vie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isplayed as an expandable tree for structured typ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nable/Disable each watch with checkbox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cals vie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e values earlier in Call Stack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isplayed as an expandable tree for structured typ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! Expandable tooltip evaluation for structured typ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tomatically closes implicitly opened fi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deguard debugging support (C++ Builde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mbol Table Manag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pile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hat will be covered?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grated Development Environment (ID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ntime Library (RT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sual Component Library (VC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hat will be covered? - Languag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Variables, Static Methods, Class Constructor, Class Propert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ict Private, Strict Protec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sted declarations (class visibilit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alue Types – Records: Methods, Constructor, Interfa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erator Overloa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in – loo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300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unction Inlineing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Inserting complete expression node trees into dcu-files is first step towards Generics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code identifiers in UTF-8 or UCS2 (not RTT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scape keyword (&amp;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and Record Help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Pentium 4 SSE4 and SSE2 Instructions Op Co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XML Doc Gene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amespac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namespace is a logical container for types to eliminate name collis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mespaces do not have any physical manifes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 assembly can contribute to multiple namespa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ltiple assemblies can contribute to a namespa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ample: System.Windows.Forms in .N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amespaces and Delphi Syntax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phi unit defines its own namespa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otted names in unit identifiers and file nam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hance fully qualified identifi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served words / keywords allowed after first iden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nicode/UTF8 identifiers will be allowed after first ide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(not in first release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Narrow"/>
              </a:rPr>
              <a:t>For In Loo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or Element in ArrayExpr do Stmt;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or Element in StringExpr do Stmt;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or Element in SetExpr do Stmt;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or Element in CollectionExpr do Stmt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Narrow"/>
              </a:rPr>
              <a:t>Function inlin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Inline directiv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Is only a Hint to the compil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Can result in large executable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{$INLINE ON}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enabled for functions marked with the inline keywor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{$INLINE OFF}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suppress inlining in a (portion of a) program, for specific call site, regardless of presence of inline directiv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{$INLINE AUTO}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compiler will inline functions marked plus automatically inline function with small bodie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Narrow"/>
              </a:rPr>
              <a:t>Records with method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TRecord = recor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a,b: Intege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TMyRecordWithMethods = recor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a,b: Intege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constructor Create(aParam,bParam: Integer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function toString: String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Narrow"/>
              </a:rPr>
              <a:t>Records -&gt; Operator verload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Quark = recor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priva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FCharge: Integer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FSpin: Single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FColor: Byte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public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lass operator Add(a, b: TQuark): TQuark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lass operator Add(a: TQuark; b: Byte): TQuark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lass operator Implicit(a: Integer): TQuark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lass operator Explicit(a: TQuark): Integer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lass operator Explicit(a: TQuark): String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nd;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perator Overload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q: TQuark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s: String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q := 12;     // Implicit conversion from integ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q := q + 4;  // Add(TQuark, Byte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// q := 4 + q;  syntax error – no Add(Byte, TQuark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 := String(q);  // Explicit(Quark): Str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riteln(q);  // compiler uses Explicit(Quark): St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perator overload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erators only apply to the language’s existing set of operator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+-/*div mod xor and or not shl shr, etc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 new or arbitrary funny symbo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licit operators define what typecasts are allow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mplicit operators define what silent conversions are allowed (like byte-&gt;intege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nly cast operators may overload by function resul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ested Typ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yp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MyClass = 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data: Integer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t foo = 1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ype TNestedClass = 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cedure Hello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cedure Gree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DE - Productivit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Narrow"/>
              </a:rPr>
              <a:t>Class scop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Protec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New class scoping lev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 Narrow"/>
              </a:rPr>
              <a:t>Strict privat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 Narrow"/>
              </a:rPr>
              <a:t>Strict protecte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Narrow"/>
              </a:rPr>
              <a:t>Class Variabl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TMyClass = cla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class va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InstanceCount: Intege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constructor Creat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ass Static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yp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MyClass = 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Fdata: Integer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property Foo: String …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procedure On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procedure Two; static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Narrow"/>
              </a:rPr>
              <a:t>Abstract Classes / Method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yp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MyClass = abstract 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procedure On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procedure Two; abstrac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Narrow"/>
              </a:rPr>
              <a:t>Sealed Class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yp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MyFirstClass = 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cedure One; virtual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MySecondClass = sealed class(TMyFirstClas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cedure One; overrid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MyThirdClass = class(TMySecondClas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cedure One; override;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</a:t>
            </a:r>
            <a:r>
              <a:rPr b="0" lang="en-US" sz="2400" spc="-1" strike="noStrike">
                <a:solidFill>
                  <a:srgbClr val="ea0600"/>
                </a:solidFill>
                <a:latin typeface="Arial Narrow"/>
              </a:rPr>
              <a:t>produces compiler err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ass Helper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class helper is a syntax trick that makes methods and properties appear to exist on object types beyond your control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ample: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phi’s traditional TObject base class has a Classname method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Delphi for .NET, though TObject = System.Objec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.Object does not implement “Classname”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wever, Delphi source code can call Classname on any object in .NET, and get the expected result, without modifying the .NET objec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ass Helper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le #1:  Class Helpers are for binding the language and class library foundations to new platforms while preserving name expectations for existing portable cod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helpers are not intended for application or component development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ass Helper Syntax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bjectHelper = class helper for T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function Classname: String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;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3505320"/>
            <a:ext cx="655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Contai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/ Protected / Public s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methods and instance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tual methods (which can be overridd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tr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v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NOT contain instance data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T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TL – What’s New?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EW! High performance, thread-safe/aware Memory Manag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in32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sed on the FastMM4 memory manager by Pierre le Rich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lligent thread lock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places old Borland memory manag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ust recompile to get new memory manag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-2214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ew RTL functions from FastCode projec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ve, Pos, PosEx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areMe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Copy, StrComp, UpperCase, LowerCas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wer, ArcCos, ArcSi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-2214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ength is now inlin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liminates the call overhead for checking string length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Delphi 2006 - Refactoring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418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ymbol Rename (Delphi, C#, C++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xtract Method (Delphi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eclare Variable and Field (Delphi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Find References (Delphi, C#, C++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xtract Resourcestring (Delphi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Find Unit (Delphi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Use Namespace (C#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Undo (Delphi, C#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hange Parameters (Delphi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lso Model Refactorings…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3351240" cy="3610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58000" y="3300480"/>
            <a:ext cx="182880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VC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VCL – New Properti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rgi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efines a “no fly” zone 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outside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d with Designer Guidelines to define where guides go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efaults to 3 pixel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ignWithMargi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s the name implies – takes into account the Margins propert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rgins never violate other margin spac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d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efines a “no fly” zone 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container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Only on containers (TForm, TFrame, TPanel, etc..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efaults to 0 pixel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VCL – New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ButtonGrou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CategoryButt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DockTabS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PopUpActionBa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TrayIc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GridPan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ovides a flexible grid based layou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ells can span multiple columns or row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ntrols are sized and aligned automaticall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ide effect – reduces flicker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FlowPan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utomatic “flow” layout of content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ful for run-time generated form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VCL – New functionalit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llimouse/Mouse whe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Just include the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IMouse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unit to enable i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ovides support to display scroller target like Internet Explorer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Listbox, TMemo, TListView, TTreeView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d in IDE editor as well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atabas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yalty Free! MIDAS/DataSnap™ multi-tier deployment licen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bExpress™ server connectivity t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terBase® v7.5 and 7.5.1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Oracle® 10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icrosoft SQL Server™ 2000 and 2005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formix® 9x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BM DB2® 8.x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ySQL® 4.0.24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QL Anywhere® 9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ybase® 12.5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365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Questions &amp; Answer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4680" y="152280"/>
            <a:ext cx="8232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it Test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46120" y="1522440"/>
            <a:ext cx="411480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Unit (.NET) suppo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Unit (Delphi/Win32) suppo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ew test case (Delphi &amp; C#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ew test project (Delphi &amp; C#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3280" y="1687680"/>
            <a:ext cx="4133880" cy="109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34800" y="3300480"/>
            <a:ext cx="55627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IDE with Integrated Class Designe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630540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Together – Diagramming Typ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5760" y="1523520"/>
            <a:ext cx="4546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lass Diag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ollaboration Diag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Use Case Diag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Activity Diag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omponent Diagram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Deployment Diag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tatechart Diag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equence Diag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33920" y="1523880"/>
            <a:ext cx="42670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9680" y="525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ML™ Modeling with LiveSource™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gether® LiveSource™ technology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ML™ Class diagrams are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 Narrow"/>
              </a:rPr>
              <a:t>live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rendition of the underlying source cod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odel to Code.  Code to Model.  Always in sync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77960" y="3641760"/>
            <a:ext cx="6781680" cy="2667960"/>
            <a:chOff x="1677960" y="3641760"/>
            <a:chExt cx="6781680" cy="2667960"/>
          </a:xfrm>
        </p:grpSpPr>
        <p:grpSp>
          <p:nvGrpSpPr>
            <p:cNvPr id="111" name=""/>
            <p:cNvGrpSpPr/>
            <p:nvPr/>
          </p:nvGrpSpPr>
          <p:grpSpPr>
            <a:xfrm>
              <a:off x="4421160" y="3641760"/>
              <a:ext cx="990360" cy="837720"/>
              <a:chOff x="4421160" y="3641760"/>
              <a:chExt cx="990360" cy="837720"/>
            </a:xfrm>
          </p:grpSpPr>
          <p:sp>
            <p:nvSpPr>
              <p:cNvPr id="112" name="Gear"/>
              <p:cNvSpPr/>
              <p:nvPr/>
            </p:nvSpPr>
            <p:spPr>
              <a:xfrm>
                <a:off x="4970160" y="3641760"/>
                <a:ext cx="441360" cy="384120"/>
              </a:xfrm>
              <a:prstGeom prst="pie">
                <a:avLst/>
              </a:prstGeom>
              <a:solidFill>
                <a:srgbClr val="3dab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421160" y="3800160"/>
                <a:ext cx="527760" cy="459360"/>
              </a:xfrm>
              <a:prstGeom prst="pie">
                <a:avLst/>
              </a:prstGeom>
              <a:solidFill>
                <a:srgbClr val="3dab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763160" y="3969360"/>
                <a:ext cx="586440" cy="510120"/>
              </a:xfrm>
              <a:prstGeom prst="pie">
                <a:avLst/>
              </a:prstGeom>
              <a:solidFill>
                <a:srgbClr val="3dab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77960" y="3641760"/>
              <a:ext cx="6781680" cy="2667960"/>
              <a:chOff x="1677960" y="3641760"/>
              <a:chExt cx="6781680" cy="266796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4497120" y="5394240"/>
                <a:ext cx="990720" cy="838440"/>
                <a:chOff x="4497120" y="5394240"/>
                <a:chExt cx="990720" cy="838440"/>
              </a:xfrm>
            </p:grpSpPr>
            <p:sp>
              <p:nvSpPr>
                <p:cNvPr id="117" name="Gear"/>
                <p:cNvSpPr/>
                <p:nvPr/>
              </p:nvSpPr>
              <p:spPr>
                <a:xfrm>
                  <a:off x="5046480" y="5394240"/>
                  <a:ext cx="441360" cy="384480"/>
                </a:xfrm>
                <a:prstGeom prst="pie">
                  <a:avLst/>
                </a:prstGeom>
                <a:solidFill>
                  <a:srgbClr val="3dab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497120" y="5552640"/>
                  <a:ext cx="527760" cy="459720"/>
                </a:xfrm>
                <a:prstGeom prst="pie">
                  <a:avLst/>
                </a:prstGeom>
                <a:solidFill>
                  <a:srgbClr val="3dab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39480" y="5722200"/>
                  <a:ext cx="586440" cy="510480"/>
                </a:xfrm>
                <a:prstGeom prst="pie">
                  <a:avLst/>
                </a:prstGeom>
                <a:solidFill>
                  <a:srgbClr val="3dab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1677960" y="3641760"/>
                <a:ext cx="6781680" cy="2667960"/>
                <a:chOff x="1677960" y="3641760"/>
                <a:chExt cx="6781680" cy="2667960"/>
              </a:xfrm>
            </p:grpSpPr>
            <p:graphicFrame>
              <p:nvGraphicFramePr>
                <p:cNvPr id="121" name=""/>
                <p:cNvGraphicFramePr/>
                <p:nvPr/>
              </p:nvGraphicFramePr>
              <p:xfrm>
                <a:off x="1677960" y="4403880"/>
                <a:ext cx="1761840" cy="11430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22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677960" y="4403880"/>
                          <a:ext cx="1761840" cy="1143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23" name=""/>
                <p:cNvGraphicFramePr/>
                <p:nvPr/>
              </p:nvGraphicFramePr>
              <p:xfrm>
                <a:off x="6249960" y="4403880"/>
                <a:ext cx="2209680" cy="11840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2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249960" y="4403880"/>
                          <a:ext cx="2209680" cy="11840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25" name=""/>
                <p:cNvSpPr/>
                <p:nvPr/>
              </p:nvSpPr>
              <p:spPr>
                <a:xfrm>
                  <a:off x="4163400" y="3641760"/>
                  <a:ext cx="137232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crementa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Code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Generator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380120" y="5392800"/>
                  <a:ext cx="12628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ogether®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Parsing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Engine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963960" y="4784760"/>
                  <a:ext cx="208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7800e"/>
                      </a:solidFill>
                      <a:latin typeface="Trebuchet MS"/>
                    </a:rPr>
                    <a:t>LiveSource™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868720" y="4022640"/>
                  <a:ext cx="1371600" cy="304920"/>
                </a:xfrm>
                <a:custGeom>
                  <a:avLst/>
                  <a:gdLst/>
                  <a:ahLst/>
                  <a:rect l="l" t="t" r="r" b="b"/>
                  <a:pathLst>
                    <a:path w="1344" h="144">
                      <a:moveTo>
                        <a:pt x="0" y="0"/>
                      </a:moveTo>
                      <a:lnTo>
                        <a:pt x="1344" y="0"/>
                      </a:lnTo>
                      <a:lnTo>
                        <a:pt x="1344" y="144"/>
                      </a:lnTo>
                    </a:path>
                  </a:pathLst>
                </a:custGeom>
                <a:noFill/>
                <a:ln w="38160">
                  <a:solidFill>
                    <a:srgbClr val="57800e"/>
                  </a:solidFill>
                  <a:round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868720" y="5546880"/>
                  <a:ext cx="1371600" cy="304560"/>
                </a:xfrm>
                <a:custGeom>
                  <a:avLst/>
                  <a:gdLst/>
                  <a:ahLst/>
                  <a:rect l="l" t="t" r="r" b="b"/>
                  <a:pathLst>
                    <a:path w="1344" h="96">
                      <a:moveTo>
                        <a:pt x="1344" y="0"/>
                      </a:moveTo>
                      <a:lnTo>
                        <a:pt x="1344" y="96"/>
                      </a:lnTo>
                      <a:lnTo>
                        <a:pt x="0" y="96"/>
                      </a:lnTo>
                    </a:path>
                  </a:pathLst>
                </a:custGeom>
                <a:noFill/>
                <a:ln w="38160">
                  <a:solidFill>
                    <a:srgbClr val="57800e"/>
                  </a:solidFill>
                  <a:round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516040" y="4022640"/>
                  <a:ext cx="1447920" cy="304920"/>
                </a:xfrm>
                <a:custGeom>
                  <a:avLst/>
                  <a:gdLst/>
                  <a:ahLst/>
                  <a:rect l="l" t="t" r="r" b="b"/>
                  <a:pathLst>
                    <a:path w="1296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1296" y="0"/>
                      </a:lnTo>
                    </a:path>
                  </a:pathLst>
                </a:custGeom>
                <a:noFill/>
                <a:ln w="38160">
                  <a:solidFill>
                    <a:srgbClr val="57800e"/>
                  </a:solidFill>
                  <a:round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516040" y="5622840"/>
                  <a:ext cx="1447920" cy="304920"/>
                </a:xfrm>
                <a:custGeom>
                  <a:avLst/>
                  <a:gdLst/>
                  <a:ahLst/>
                  <a:rect l="l" t="t" r="r" b="b"/>
                  <a:pathLst>
                    <a:path w="1296" h="96">
                      <a:moveTo>
                        <a:pt x="1296" y="96"/>
                      </a:moveTo>
                      <a:lnTo>
                        <a:pt x="0" y="9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57800e"/>
                  </a:solidFill>
                  <a:round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Documentation Genera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097080" cy="3004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4114800" cy="2148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" y="1343160"/>
            <a:ext cx="548316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476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MS UI Gothic"/>
              </a:rPr>
              <a:t>UML Documentation Wizar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Bef>
                <a:spcPts val="476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MS UI Gothic"/>
              </a:rPr>
              <a:t>HTML Generation Document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Bef>
                <a:spcPts val="34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MS UI Gothic"/>
              </a:rPr>
              <a:t>The HTML documentation contains three frames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4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MS UI Gothic"/>
              </a:rPr>
              <a:t>Diagram fr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4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MS UI Gothic"/>
              </a:rPr>
              <a:t>Project and Overview fr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4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MS UI Gothic"/>
              </a:rPr>
              <a:t>Documentation fram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23:26:34Z</dcterms:created>
  <dc:creator>Julie Wider</dc:creator>
  <dc:description/>
  <dc:language>en-US</dc:language>
  <cp:lastModifiedBy>Fredrik Haglund</cp:lastModifiedBy>
  <dcterms:modified xsi:type="dcterms:W3CDTF">2006-12-07T09:24:42Z</dcterms:modified>
  <cp:revision>176</cp:revision>
  <dc:subject/>
  <dc:title>Website Examples</dc:title>
</cp:coreProperties>
</file>