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4612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46120" y="1523520"/>
            <a:ext cx="8229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46120" y="4111200"/>
            <a:ext cx="8229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4612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46120" y="152352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63160" y="152352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46120" y="411120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63160" y="411120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4612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46120" y="1523520"/>
            <a:ext cx="2649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28560" y="1523520"/>
            <a:ext cx="2649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11000" y="1523520"/>
            <a:ext cx="2649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46120" y="4111200"/>
            <a:ext cx="2649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28560" y="4111200"/>
            <a:ext cx="2649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11000" y="4111200"/>
            <a:ext cx="2649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4612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546120" y="15235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dabbd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4612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46120" y="15235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4612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46120" y="1523520"/>
            <a:ext cx="4015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63160" y="1523520"/>
            <a:ext cx="4015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4612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54612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dabbd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4612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46120" y="152352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63160" y="1523520"/>
            <a:ext cx="4015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546120" y="411120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4612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546120" y="15235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dabbd"/>
              </a:solidFill>
              <a:latin typeface="Arial Narrow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4612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46120" y="1523520"/>
            <a:ext cx="4015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63160" y="152352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763160" y="411120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4612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46120" y="152352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63160" y="152352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46120" y="4111200"/>
            <a:ext cx="8229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4612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46120" y="1523520"/>
            <a:ext cx="8229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46120" y="4111200"/>
            <a:ext cx="8229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4612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46120" y="152352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63160" y="152352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46120" y="411120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763160" y="411120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4612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46120" y="1523520"/>
            <a:ext cx="2649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328560" y="1523520"/>
            <a:ext cx="2649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111000" y="1523520"/>
            <a:ext cx="2649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46120" y="4111200"/>
            <a:ext cx="2649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328560" y="4111200"/>
            <a:ext cx="2649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111000" y="4111200"/>
            <a:ext cx="2649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4612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46120" y="15235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4612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46120" y="1523520"/>
            <a:ext cx="4015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63160" y="1523520"/>
            <a:ext cx="4015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4612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54612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dabbd"/>
              </a:solidFill>
              <a:latin typeface="Arial Narrow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4612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46120" y="152352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63160" y="1523520"/>
            <a:ext cx="4015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46120" y="411120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4612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46120" y="1523520"/>
            <a:ext cx="4015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63160" y="152352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63160" y="411120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4612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46120" y="152352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63160" y="152352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46120" y="4111200"/>
            <a:ext cx="8229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4612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46120" y="15235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5000"/>
              </a:lnSpc>
              <a:spcBef>
                <a:spcPts val="601"/>
              </a:spcBef>
              <a:buClr>
                <a:srgbClr val="3dabb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3dabbd"/>
              </a:buClr>
              <a:buSzPct val="9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95000"/>
              </a:lnSpc>
              <a:spcBef>
                <a:spcPts val="601"/>
              </a:spcBef>
              <a:buClr>
                <a:srgbClr val="3dabbd"/>
              </a:buClr>
              <a:buSzPct val="9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-228600">
              <a:lnSpc>
                <a:spcPct val="95000"/>
              </a:lnSpc>
              <a:spcBef>
                <a:spcPts val="601"/>
              </a:spcBef>
              <a:buClr>
                <a:srgbClr val="3dabbd"/>
              </a:buClr>
              <a:buSzPct val="9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2057400" indent="-228600">
              <a:lnSpc>
                <a:spcPct val="95000"/>
              </a:lnSpc>
              <a:spcBef>
                <a:spcPts val="601"/>
              </a:spcBef>
              <a:buClr>
                <a:srgbClr val="3dabbd"/>
              </a:buClr>
              <a:buSzPct val="90000"/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2057400" indent="-228600">
              <a:lnSpc>
                <a:spcPct val="95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2057400" indent="-228600">
              <a:lnSpc>
                <a:spcPct val="95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" name=""/>
          <p:cNvSpPr/>
          <p:nvPr/>
        </p:nvSpPr>
        <p:spPr>
          <a:xfrm>
            <a:off x="76320" y="1295280"/>
            <a:ext cx="8991360" cy="5486400"/>
          </a:xfrm>
          <a:prstGeom prst="rect">
            <a:avLst/>
          </a:prstGeom>
          <a:noFill/>
          <a:ln w="9360">
            <a:solidFill>
              <a:srgbClr val="0f82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7456320" y="647712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47560" y="1815840"/>
            <a:ext cx="7407360" cy="17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"/>
          <p:cNvSpPr/>
          <p:nvPr/>
        </p:nvSpPr>
        <p:spPr>
          <a:xfrm>
            <a:off x="76320" y="76320"/>
            <a:ext cx="8991360" cy="6705360"/>
          </a:xfrm>
          <a:prstGeom prst="rect">
            <a:avLst/>
          </a:prstGeom>
          <a:noFill/>
          <a:ln w="9360">
            <a:solidFill>
              <a:srgbClr val="0f82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dabbd"/>
                </a:solidFill>
                <a:latin typeface="Arial Narrow"/>
              </a:rPr>
              <a:t>Click to edit the outline text format</a:t>
            </a:r>
            <a:endParaRPr b="0" lang="en-US" sz="2000" spc="-1" strike="noStrike">
              <a:solidFill>
                <a:srgbClr val="3dabbd"/>
              </a:solidFill>
              <a:latin typeface="Arial Narrow"/>
            </a:endParaRPr>
          </a:p>
          <a:p>
            <a:pPr lvl="1" marL="457200" indent="0" algn="ctr">
              <a:lnSpc>
                <a:spcPct val="9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lvl="2" marL="914400" algn="ctr">
              <a:lnSpc>
                <a:spcPct val="95000"/>
              </a:lnSpc>
              <a:spcBef>
                <a:spcPts val="499"/>
              </a:spcBef>
              <a:buClr>
                <a:srgbClr val="3dabbd"/>
              </a:buClr>
              <a:buSzPct val="90000"/>
              <a:buFont typeface="Arial Narrow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3" marL="1371600" algn="ctr">
              <a:lnSpc>
                <a:spcPct val="95000"/>
              </a:lnSpc>
              <a:spcBef>
                <a:spcPts val="451"/>
              </a:spcBef>
              <a:buClr>
                <a:srgbClr val="3dabbd"/>
              </a:buClr>
              <a:buSzPct val="90000"/>
              <a:buFont typeface="Arial Narrow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4" marL="1828800" algn="ctr">
              <a:lnSpc>
                <a:spcPct val="95000"/>
              </a:lnSpc>
              <a:spcBef>
                <a:spcPts val="451"/>
              </a:spcBef>
              <a:buClr>
                <a:srgbClr val="3dabbd"/>
              </a:buClr>
              <a:buSzPct val="90000"/>
              <a:buFont typeface="Arial Narrow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SzPct val="90000"/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SzPct val="90000"/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47200" y="1815840"/>
            <a:ext cx="8062920" cy="17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ake control over components and libraries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</a:t>
            </a:r>
            <a:br>
              <a:rPr sz="1600"/>
            </a:br>
            <a:r>
              <a:rPr b="1" lang="en-GB" sz="3200" spc="-1" strike="noStrike">
                <a:solidFill>
                  <a:srgbClr val="000000"/>
                </a:solidFill>
                <a:latin typeface="Arial Narrow"/>
              </a:rPr>
              <a:t>Effective Configuration with Delphi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547200" y="3620880"/>
            <a:ext cx="579132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dabbd"/>
                </a:solidFill>
                <a:latin typeface="Arial Narrow"/>
              </a:rPr>
              <a:t>Fredrik Haglund</a:t>
            </a:r>
            <a:endParaRPr b="0" lang="en-US" sz="2000" spc="-1" strike="noStrike">
              <a:solidFill>
                <a:srgbClr val="3dabbd"/>
              </a:solidFill>
              <a:latin typeface="Arial Narrow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dabbd"/>
                </a:solidFill>
                <a:latin typeface="Arial Narrow"/>
              </a:rPr>
              <a:t>Regional Developer Evangelist</a:t>
            </a:r>
            <a:endParaRPr b="0" lang="en-US" sz="2000" spc="-1" strike="noStrike">
              <a:solidFill>
                <a:srgbClr val="3dabbd"/>
              </a:solidFill>
              <a:latin typeface="Arial Narrow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dabbd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4612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Components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46120" y="15235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5000"/>
              </a:lnSpc>
              <a:spcBef>
                <a:spcPts val="601"/>
              </a:spcBef>
              <a:buClr>
                <a:srgbClr val="3dabb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Ordinary class that is a subclass of TComponent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8600" indent="-228600">
              <a:lnSpc>
                <a:spcPct val="95000"/>
              </a:lnSpc>
              <a:spcBef>
                <a:spcPts val="601"/>
              </a:spcBef>
              <a:buClr>
                <a:srgbClr val="3dabb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procedure Register;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8600" indent="-228600">
              <a:lnSpc>
                <a:spcPct val="95000"/>
              </a:lnSpc>
              <a:spcBef>
                <a:spcPts val="601"/>
              </a:spcBef>
              <a:buClr>
                <a:srgbClr val="3dabb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Units are compiled to DCU-file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8600" indent="-228600">
              <a:lnSpc>
                <a:spcPct val="95000"/>
              </a:lnSpc>
              <a:spcBef>
                <a:spcPts val="601"/>
              </a:spcBef>
              <a:buClr>
                <a:srgbClr val="3dabb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DCU-files are linked to a Package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860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4612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ackage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46120" y="15235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5000"/>
              </a:lnSpc>
              <a:spcBef>
                <a:spcPts val="601"/>
              </a:spcBef>
              <a:buClr>
                <a:srgbClr val="3dabb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 Package is an ordinary DLL with extension BP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8600" indent="-228600">
              <a:lnSpc>
                <a:spcPct val="95000"/>
              </a:lnSpc>
              <a:spcBef>
                <a:spcPts val="601"/>
              </a:spcBef>
              <a:buClr>
                <a:srgbClr val="3dabb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 Package can bind to units in other package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8600" indent="-228600">
              <a:lnSpc>
                <a:spcPct val="95000"/>
              </a:lnSpc>
              <a:spcBef>
                <a:spcPts val="601"/>
              </a:spcBef>
              <a:buClr>
                <a:srgbClr val="3dabb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Delphi uses LoadLibrary to load Package into proces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8600" indent="-228600">
              <a:lnSpc>
                <a:spcPct val="95000"/>
              </a:lnSpc>
              <a:spcBef>
                <a:spcPts val="601"/>
              </a:spcBef>
              <a:buClr>
                <a:srgbClr val="3dabb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DE calls all Register functions to learn about component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860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8600" indent="-228600">
              <a:lnSpc>
                <a:spcPct val="95000"/>
              </a:lnSpc>
              <a:spcBef>
                <a:spcPts val="601"/>
              </a:spcBef>
              <a:buClr>
                <a:srgbClr val="3dabb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 Package can only bind to another Package compiled with units with exactly the same interface = Delphi version dependent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860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8600" indent="-228600">
              <a:lnSpc>
                <a:spcPct val="95000"/>
              </a:lnSpc>
              <a:spcBef>
                <a:spcPts val="601"/>
              </a:spcBef>
              <a:buClr>
                <a:srgbClr val="3dabb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Never create run-time packages with design time cod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4612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ackage Name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46120" y="15235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5000"/>
              </a:lnSpc>
              <a:spcBef>
                <a:spcPts val="601"/>
              </a:spcBef>
              <a:buClr>
                <a:srgbClr val="3dabb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Recommend use Delphi version in package nam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860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8600" indent="-228600">
              <a:lnSpc>
                <a:spcPct val="95000"/>
              </a:lnSpc>
              <a:spcBef>
                <a:spcPts val="601"/>
              </a:spcBef>
              <a:buClr>
                <a:srgbClr val="3dabb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$LIBPREFIX ‘100‘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5000"/>
              </a:lnSpc>
              <a:spcBef>
                <a:spcPts val="550"/>
              </a:spcBef>
              <a:buClr>
                <a:srgbClr val="3dabbd"/>
              </a:buClr>
              <a:buSzPct val="9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Append Delphi version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marL="228600" indent="-228600">
              <a:lnSpc>
                <a:spcPct val="95000"/>
              </a:lnSpc>
              <a:spcBef>
                <a:spcPts val="601"/>
              </a:spcBef>
              <a:buClr>
                <a:srgbClr val="3dabb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$LIBSUFFIX ‘dcl‘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5000"/>
              </a:lnSpc>
              <a:spcBef>
                <a:spcPts val="550"/>
              </a:spcBef>
              <a:buClr>
                <a:srgbClr val="3dabbd"/>
              </a:buClr>
              <a:buSzPct val="9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Prepend if run-time or design-time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marL="22860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4612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Dependencies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46120" y="15235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5000"/>
              </a:lnSpc>
              <a:spcBef>
                <a:spcPts val="601"/>
              </a:spcBef>
              <a:buClr>
                <a:srgbClr val="3dabb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DCP – Delphi Compiled Packag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8600" indent="-228600">
              <a:lnSpc>
                <a:spcPct val="95000"/>
              </a:lnSpc>
              <a:spcBef>
                <a:spcPts val="601"/>
              </a:spcBef>
              <a:buClr>
                <a:srgbClr val="3dabb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ontains all DCU files of Package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8600" indent="-228600">
              <a:lnSpc>
                <a:spcPct val="95000"/>
              </a:lnSpc>
              <a:spcBef>
                <a:spcPts val="601"/>
              </a:spcBef>
              <a:buClr>
                <a:srgbClr val="3dabb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Requires section reference DCP-files needed during compile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8600" indent="-228600">
              <a:lnSpc>
                <a:spcPct val="95000"/>
              </a:lnSpc>
              <a:spcBef>
                <a:spcPts val="601"/>
              </a:spcBef>
              <a:buClr>
                <a:srgbClr val="3dabb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Requires section gives dependency to BPL-fil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4612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un-Time Packages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46120" y="15235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5000"/>
              </a:lnSpc>
              <a:spcBef>
                <a:spcPts val="601"/>
              </a:spcBef>
              <a:buClr>
                <a:srgbClr val="3dabb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LoadLibrary is used to load dependent librarie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5000"/>
              </a:lnSpc>
              <a:spcBef>
                <a:spcPts val="550"/>
              </a:spcBef>
              <a:buClr>
                <a:srgbClr val="3dabbd"/>
              </a:buClr>
              <a:buSzPct val="9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Search order (Exact order depends on OS, SP and registry settings)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3dabbd"/>
              </a:buClr>
              <a:buSzPct val="90000"/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Application start directory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3dabbd"/>
              </a:buClr>
              <a:buSzPct val="90000"/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Windows and System Folder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3dabbd"/>
              </a:buClr>
              <a:buSzPct val="90000"/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Current folder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3dabbd"/>
              </a:buClr>
              <a:buSzPct val="90000"/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Process Environment Variable PATH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4612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Deploy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46120" y="15235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5000"/>
              </a:lnSpc>
              <a:spcBef>
                <a:spcPts val="601"/>
              </a:spcBef>
              <a:buClr>
                <a:srgbClr val="3dabb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pplication and Run-Time packages (BPL-files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8600" indent="-228600">
              <a:lnSpc>
                <a:spcPct val="95000"/>
              </a:lnSpc>
              <a:spcBef>
                <a:spcPts val="601"/>
              </a:spcBef>
              <a:buClr>
                <a:srgbClr val="3dabb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omponent Vendor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5000"/>
              </a:lnSpc>
              <a:spcBef>
                <a:spcPts val="550"/>
              </a:spcBef>
              <a:buClr>
                <a:srgbClr val="3dabbd"/>
              </a:buClr>
              <a:buSzPct val="9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Run-Time packages (BPL-files)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5000"/>
              </a:lnSpc>
              <a:spcBef>
                <a:spcPts val="550"/>
              </a:spcBef>
              <a:buClr>
                <a:srgbClr val="3dabbd"/>
              </a:buClr>
              <a:buSzPct val="9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DCP-files for all Run-Time Packages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5000"/>
              </a:lnSpc>
              <a:spcBef>
                <a:spcPts val="550"/>
              </a:spcBef>
              <a:buClr>
                <a:srgbClr val="3dabbd"/>
              </a:buClr>
              <a:buSzPct val="9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DCU-files 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5000"/>
              </a:lnSpc>
              <a:spcBef>
                <a:spcPts val="550"/>
              </a:spcBef>
              <a:buClr>
                <a:srgbClr val="3dabbd"/>
              </a:buClr>
              <a:buSzPct val="9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Design-Time packages (BPL-file)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lnSpc>
                <a:spcPct val="9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marL="22860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860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47560" y="1815840"/>
            <a:ext cx="7407360" cy="17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ject Paths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547200" y="3620880"/>
            <a:ext cx="579132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dabbd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4612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ject Root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46120" y="15235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5000"/>
              </a:lnSpc>
              <a:spcBef>
                <a:spcPts val="601"/>
              </a:spcBef>
              <a:buClr>
                <a:srgbClr val="3dabb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trategie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5000"/>
              </a:lnSpc>
              <a:spcBef>
                <a:spcPts val="550"/>
              </a:spcBef>
              <a:buClr>
                <a:srgbClr val="3dabbd"/>
              </a:buClr>
              <a:buSzPct val="9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Use SUBST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5000"/>
              </a:lnSpc>
              <a:spcBef>
                <a:spcPts val="550"/>
              </a:spcBef>
              <a:buClr>
                <a:srgbClr val="3dabbd"/>
              </a:buClr>
              <a:buSzPct val="9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Use Environmental Variable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marL="228600" indent="-228600">
              <a:lnSpc>
                <a:spcPct val="95000"/>
              </a:lnSpc>
              <a:spcBef>
                <a:spcPts val="601"/>
              </a:spcBef>
              <a:buClr>
                <a:srgbClr val="3dabb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Build Script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5000"/>
              </a:lnSpc>
              <a:spcBef>
                <a:spcPts val="550"/>
              </a:spcBef>
              <a:buClr>
                <a:srgbClr val="3dabbd"/>
              </a:buClr>
              <a:buSzPct val="9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Use %ROOT%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marL="228600" indent="-228600">
              <a:lnSpc>
                <a:spcPct val="95000"/>
              </a:lnSpc>
              <a:spcBef>
                <a:spcPts val="601"/>
              </a:spcBef>
              <a:buClr>
                <a:srgbClr val="3dabb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Paths In Delphi ID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5000"/>
              </a:lnSpc>
              <a:spcBef>
                <a:spcPts val="550"/>
              </a:spcBef>
              <a:buClr>
                <a:srgbClr val="3dabbd"/>
              </a:buClr>
              <a:buSzPct val="9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Use $(ROOT)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marL="22860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860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4612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ath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46120" y="15235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5000"/>
              </a:lnSpc>
              <a:spcBef>
                <a:spcPts val="601"/>
              </a:spcBef>
              <a:buClr>
                <a:srgbClr val="3dabb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Use REG-file to set PATH Environmental Variable for Delphi ID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8600" indent="-228600">
              <a:lnSpc>
                <a:spcPct val="95000"/>
              </a:lnSpc>
              <a:spcBef>
                <a:spcPts val="601"/>
              </a:spcBef>
              <a:buClr>
                <a:srgbClr val="3dabb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mportant to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 Narrow"/>
              </a:rPr>
              <a:t>add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search path to run-time packages for project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8600" indent="-228600">
              <a:lnSpc>
                <a:spcPct val="95000"/>
              </a:lnSpc>
              <a:spcBef>
                <a:spcPts val="601"/>
              </a:spcBef>
              <a:buClr>
                <a:srgbClr val="3dabb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mportant to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 Narrow"/>
              </a:rPr>
              <a:t>keep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search path to System, SDK tools, etc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860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8600" indent="-228600">
              <a:lnSpc>
                <a:spcPct val="95000"/>
              </a:lnSpc>
              <a:spcBef>
                <a:spcPts val="601"/>
              </a:spcBef>
              <a:buClr>
                <a:srgbClr val="3dabb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hange BPL/DCP output path to a project local folder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860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4612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blem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46120" y="15235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5000"/>
              </a:lnSpc>
              <a:spcBef>
                <a:spcPts val="601"/>
              </a:spcBef>
              <a:buClr>
                <a:srgbClr val="3dabb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eam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5000"/>
              </a:lnSpc>
              <a:spcBef>
                <a:spcPts val="550"/>
              </a:spcBef>
              <a:buClr>
                <a:srgbClr val="3dabbd"/>
              </a:buClr>
              <a:buSzPct val="9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Setup environment for new developer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5000"/>
              </a:lnSpc>
              <a:spcBef>
                <a:spcPts val="550"/>
              </a:spcBef>
              <a:buClr>
                <a:srgbClr val="3dabbd"/>
              </a:buClr>
              <a:buSzPct val="9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Team uses same version of components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marL="228600" indent="-228600">
              <a:lnSpc>
                <a:spcPct val="95000"/>
              </a:lnSpc>
              <a:spcBef>
                <a:spcPts val="601"/>
              </a:spcBef>
              <a:buClr>
                <a:srgbClr val="3dabb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ource Code Contro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5000"/>
              </a:lnSpc>
              <a:spcBef>
                <a:spcPts val="550"/>
              </a:spcBef>
              <a:buClr>
                <a:srgbClr val="3dabbd"/>
              </a:buClr>
              <a:buSzPct val="9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Handle different versions of components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marL="228600" indent="-228600">
              <a:lnSpc>
                <a:spcPct val="95000"/>
              </a:lnSpc>
              <a:spcBef>
                <a:spcPts val="601"/>
              </a:spcBef>
              <a:buClr>
                <a:srgbClr val="3dabb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onsultants and Team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5000"/>
              </a:lnSpc>
              <a:spcBef>
                <a:spcPts val="550"/>
              </a:spcBef>
              <a:buClr>
                <a:srgbClr val="3dabbd"/>
              </a:buClr>
              <a:buSzPct val="9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Different settings for different projects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marL="22860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4612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Common project configuration 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46120" y="15235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5000"/>
              </a:lnSpc>
              <a:spcBef>
                <a:spcPts val="601"/>
              </a:spcBef>
              <a:buClr>
                <a:srgbClr val="3dabb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Make sure all developers </a:t>
            </a:r>
            <a:r>
              <a:rPr b="1" i="1" lang="en-US" sz="2400" spc="-1" strike="noStrike">
                <a:solidFill>
                  <a:srgbClr val="000000"/>
                </a:solidFill>
                <a:latin typeface="Arial Narrow"/>
              </a:rPr>
              <a:t>use the same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source, components and libraries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457200" indent="-457200">
              <a:lnSpc>
                <a:spcPct val="95000"/>
              </a:lnSpc>
              <a:spcBef>
                <a:spcPts val="601"/>
              </a:spcBef>
              <a:buClr>
                <a:srgbClr val="3dabb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Make it </a:t>
            </a:r>
            <a:r>
              <a:rPr b="1" i="1" lang="en-US" sz="2400" spc="-1" strike="noStrike">
                <a:solidFill>
                  <a:srgbClr val="000000"/>
                </a:solidFill>
                <a:latin typeface="Arial Narrow"/>
              </a:rPr>
              <a:t>fast and simple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to setup the environment when </a:t>
            </a:r>
            <a:r>
              <a:rPr b="1" i="1" lang="en-US" sz="2400" spc="-1" strike="noStrike">
                <a:solidFill>
                  <a:srgbClr val="000000"/>
                </a:solidFill>
                <a:latin typeface="Arial Narrow"/>
              </a:rPr>
              <a:t>a new developer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joins the team.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457200" indent="-457200">
              <a:lnSpc>
                <a:spcPct val="95000"/>
              </a:lnSpc>
              <a:spcBef>
                <a:spcPts val="601"/>
              </a:spcBef>
              <a:buClr>
                <a:srgbClr val="3dabb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 Narrow"/>
              </a:rPr>
              <a:t>Automate installation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and upgrade of components and libraries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457200" indent="-457200">
              <a:lnSpc>
                <a:spcPct val="95000"/>
              </a:lnSpc>
              <a:spcBef>
                <a:spcPts val="601"/>
              </a:spcBef>
              <a:buClr>
                <a:srgbClr val="3dabb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Make it possible to put component under </a:t>
            </a:r>
            <a:r>
              <a:rPr b="1" i="1" lang="en-US" sz="2400" spc="-1" strike="noStrike">
                <a:solidFill>
                  <a:srgbClr val="000000"/>
                </a:solidFill>
                <a:latin typeface="Arial Narrow"/>
              </a:rPr>
              <a:t>version control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so you can roll back to an earlier build and still debug it in the IDE.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45720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4612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Different settings for different projects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46120" y="15235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5000"/>
              </a:lnSpc>
              <a:spcBef>
                <a:spcPts val="601"/>
              </a:spcBef>
              <a:buClr>
                <a:srgbClr val="3dabb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ommand Line Switche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5000"/>
              </a:lnSpc>
              <a:spcBef>
                <a:spcPts val="550"/>
              </a:spcBef>
              <a:buClr>
                <a:srgbClr val="3dabbd"/>
              </a:buClr>
              <a:buSzPct val="9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R &lt;Registry key for Settings&gt;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5000"/>
              </a:lnSpc>
              <a:spcBef>
                <a:spcPts val="550"/>
              </a:spcBef>
              <a:buClr>
                <a:srgbClr val="3dabbd"/>
              </a:buClr>
              <a:buSzPct val="9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P &lt;Personality&gt;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539640" y="3860640"/>
            <a:ext cx="549612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4612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Share settings between developers</a:t>
            </a:r>
            <a:r>
              <a:rPr b="1" lang="en-GB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46120" y="15235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5000"/>
              </a:lnSpc>
              <a:spcBef>
                <a:spcPts val="601"/>
              </a:spcBef>
              <a:buClr>
                <a:srgbClr val="3dabb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Export registry with RegEdit as Text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5000"/>
              </a:lnSpc>
              <a:spcBef>
                <a:spcPts val="550"/>
              </a:spcBef>
              <a:buClr>
                <a:srgbClr val="3dabbd"/>
              </a:buClr>
              <a:buSzPct val="9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 Narrow"/>
              </a:rPr>
              <a:t>HKCU\Software\Borland\</a:t>
            </a:r>
            <a:r>
              <a:rPr b="1" i="1" lang="en-US" sz="2200" spc="-1" strike="noStrike">
                <a:solidFill>
                  <a:srgbClr val="000000"/>
                </a:solidFill>
                <a:latin typeface="Arial Narrow"/>
              </a:rPr>
              <a:t>MyProject</a:t>
            </a:r>
            <a:r>
              <a:rPr b="0" lang="en-GB" sz="22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539640" y="2565360"/>
            <a:ext cx="5400720" cy="40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4612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Important keys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46120" y="15235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[…\Known Packages]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2860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"c:\\program files\\borland\\bds\\4.0\\Bin\\dclIndyProtocols100.bpl"="(Untitled)“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2860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2860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2860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[…\Library]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2860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"Search Path"="$(BDS)\\lib;$(BDS)\\Imports;$(BDS)\\Lib\\Indy10"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2860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"Debug DCU Path"="$(BDS)\\lib\\Debug;$(BDS)\\Lib\\Debug\\Indy10"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2860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"Package DCP Output"="$(BDSPROJECTSDIR)\\Bpl"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2860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"Package DPL Output"="$(BDSPROJECTSDIR)\\Bpl"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2860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"Package Search Path"="$(BDSPROJECTSDIR)\\Bpl"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2860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2860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[…\Known IDE Packages]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2860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2860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2860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[…\Environment Variables]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2860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"Path"=“…"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2860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2860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2860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4612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egEdit Tips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46120" y="15235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5000"/>
              </a:lnSpc>
              <a:spcBef>
                <a:spcPts val="601"/>
              </a:spcBef>
              <a:buClr>
                <a:srgbClr val="3dabb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Delete keys (to clean before adding a list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5000"/>
              </a:lnSpc>
              <a:spcBef>
                <a:spcPts val="550"/>
              </a:spcBef>
              <a:buClr>
                <a:srgbClr val="3dabbd"/>
              </a:buClr>
              <a:buSzPct val="9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Use a minus before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lnSpc>
                <a:spcPct val="9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Arial Narrow"/>
              </a:rPr>
              <a:t>[-HKEY_CURRENT_USER\Software\Testing]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marL="22860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lnSpc>
                <a:spcPct val="9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4612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Import Settings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46120" y="15235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5000"/>
              </a:lnSpc>
              <a:spcBef>
                <a:spcPts val="601"/>
              </a:spcBef>
              <a:buClr>
                <a:srgbClr val="3dabb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reate Shortcut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8600" indent="-228600">
              <a:lnSpc>
                <a:spcPct val="95000"/>
              </a:lnSpc>
              <a:spcBef>
                <a:spcPts val="601"/>
              </a:spcBef>
              <a:buClr>
                <a:srgbClr val="3dabb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tart Delphi once with Shortcut (to copy settings from HKLM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8600" indent="-228600">
              <a:lnSpc>
                <a:spcPct val="95000"/>
              </a:lnSpc>
              <a:spcBef>
                <a:spcPts val="601"/>
              </a:spcBef>
              <a:buClr>
                <a:srgbClr val="3dabb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mport REG-fil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8600" indent="-228600">
              <a:lnSpc>
                <a:spcPct val="95000"/>
              </a:lnSpc>
              <a:spcBef>
                <a:spcPts val="601"/>
              </a:spcBef>
              <a:buClr>
                <a:srgbClr val="3dabb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Restart Delphi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47560" y="1815840"/>
            <a:ext cx="7407360" cy="17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Components – Anatomy lesson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547200" y="3620880"/>
            <a:ext cx="579132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dabbd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5T08:54:00Z</dcterms:created>
  <dc:creator>Fredrik Haglund</dc:creator>
  <dc:description/>
  <dc:language>en-US</dc:language>
  <cp:lastModifiedBy>Fredrik Haglund</cp:lastModifiedBy>
  <dcterms:modified xsi:type="dcterms:W3CDTF">2007-05-01T06:49:03Z</dcterms:modified>
  <cp:revision>3</cp:revision>
  <dc:subject/>
  <dc:title>Take control over components and libraries  Effective Configuration with Delphi</dc:title>
</cp:coreProperties>
</file>